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BAE-743B-4346-9EE5-71BA98AE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9AB-59B2-44A3-A2EB-29021B5D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864-8887-462D-AAAF-217B8345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B7A-B49F-4512-99B2-C933BC2E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E01-A654-4E54-AB1C-BA5EAFA9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012-061A-46E1-A7FA-A4B7DBAC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8B1-5954-485A-9DA5-ED5FF32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CF4-3705-4744-A9B5-D81330E3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B03-284E-4208-9694-7D6A9A0F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13C-7FD2-4343-98D7-CC51CAB5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0D3-CB2A-48B7-94AB-ABB998D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995-0C9B-4AE9-B849-7CBEE84B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DA05-1821-4827-A23D-AF671A05DD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cb"/>
                </a:solidFill>
                <a:latin typeface="Arial"/>
              </a:rPr>
              <a:t>Lesson 1.4</a:t>
            </a:r>
            <a:br>
              <a:rPr sz="7500"/>
            </a:br>
            <a:r>
              <a:rPr b="0" lang="en-US" sz="7500" spc="-1" strike="noStrike">
                <a:solidFill>
                  <a:srgbClr val="d1d1cb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bination Func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binations: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+ g)(x) = f(x) + g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– g)(x) = f(x) – g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g)(x) = f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g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f/g)(x) = f(x) ÷ g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f f(x) = 2x + 5 and g(x) = 5x - 3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+ 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– 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/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– g)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f f(x) = x</a:t>
            </a:r>
            <a:r>
              <a:rPr b="0" lang="en-US" sz="4400" spc="-1" strike="noStrike" baseline="30000">
                <a:solidFill>
                  <a:srgbClr val="d1d1cb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and g(x) = x - 2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+ 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 – g)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g)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/g)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g)(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Homework: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p. 116 (1-21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Ink 5"/>
          <p:cNvSpPr/>
          <p:nvPr/>
        </p:nvSpPr>
        <p:spPr>
          <a:xfrm>
            <a:off x="250920" y="2035080"/>
            <a:ext cx="1731960" cy="501840"/>
          </a:xfrm>
          <a:custGeom>
            <a:avLst/>
            <a:gdLst/>
            <a:ahLst/>
            <a:rect l="l" t="t" r="r" b="b"/>
            <a:pathLst>
              <a:path w="4813" h="1391">
                <a:moveTo>
                  <a:pt x="1364" y="6226"/>
                </a:moveTo>
                <a:cubicBezTo>
                  <a:pt x="1326" y="6178"/>
                  <a:pt x="1295" y="6102"/>
                  <a:pt x="1215" y="6127"/>
                </a:cubicBezTo>
                <a:cubicBezTo>
                  <a:pt x="1189" y="6135"/>
                  <a:pt x="1103" y="6234"/>
                  <a:pt x="1091" y="6251"/>
                </a:cubicBezTo>
                <a:cubicBezTo>
                  <a:pt x="1050" y="6310"/>
                  <a:pt x="1002" y="6372"/>
                  <a:pt x="1017" y="6449"/>
                </a:cubicBezTo>
                <a:cubicBezTo>
                  <a:pt x="1025" y="6466"/>
                  <a:pt x="1034" y="6482"/>
                  <a:pt x="1042" y="6499"/>
                </a:cubicBezTo>
                <a:cubicBezTo>
                  <a:pt x="1097" y="6491"/>
                  <a:pt x="1132" y="6476"/>
                  <a:pt x="1166" y="6424"/>
                </a:cubicBezTo>
                <a:cubicBezTo>
                  <a:pt x="1186" y="6393"/>
                  <a:pt x="1259" y="6315"/>
                  <a:pt x="1191" y="6350"/>
                </a:cubicBezTo>
                <a:cubicBezTo>
                  <a:pt x="1191" y="6421"/>
                  <a:pt x="1178" y="6478"/>
                  <a:pt x="1265" y="6499"/>
                </a:cubicBezTo>
                <a:cubicBezTo>
                  <a:pt x="1334" y="6515"/>
                  <a:pt x="1369" y="6494"/>
                  <a:pt x="1414" y="6449"/>
                </a:cubicBezTo>
              </a:path>
              <a:path w="4813" h="1391">
                <a:moveTo>
                  <a:pt x="843" y="6102"/>
                </a:moveTo>
                <a:cubicBezTo>
                  <a:pt x="750" y="6210"/>
                  <a:pt x="700" y="6259"/>
                  <a:pt x="695" y="6400"/>
                </a:cubicBezTo>
                <a:cubicBezTo>
                  <a:pt x="693" y="6464"/>
                  <a:pt x="718" y="6575"/>
                  <a:pt x="769" y="6623"/>
                </a:cubicBezTo>
                <a:cubicBezTo>
                  <a:pt x="823" y="6673"/>
                  <a:pt x="923" y="6686"/>
                  <a:pt x="992" y="6672"/>
                </a:cubicBezTo>
                <a:cubicBezTo>
                  <a:pt x="1070" y="6647"/>
                  <a:pt x="1098" y="6637"/>
                  <a:pt x="1141" y="6598"/>
                </a:cubicBezTo>
              </a:path>
              <a:path w="4813" h="1391">
                <a:moveTo>
                  <a:pt x="1513" y="5953"/>
                </a:moveTo>
                <a:cubicBezTo>
                  <a:pt x="1622" y="6054"/>
                  <a:pt x="1709" y="6111"/>
                  <a:pt x="1761" y="6251"/>
                </a:cubicBezTo>
                <a:cubicBezTo>
                  <a:pt x="1806" y="6373"/>
                  <a:pt x="1811" y="6431"/>
                  <a:pt x="1761" y="6548"/>
                </a:cubicBezTo>
                <a:cubicBezTo>
                  <a:pt x="1742" y="6593"/>
                  <a:pt x="1684" y="6681"/>
                  <a:pt x="1637" y="6697"/>
                </a:cubicBezTo>
                <a:cubicBezTo>
                  <a:pt x="1586" y="6697"/>
                  <a:pt x="1571" y="6695"/>
                  <a:pt x="1612" y="6648"/>
                </a:cubicBezTo>
              </a:path>
              <a:path w="4813" h="1391">
                <a:moveTo>
                  <a:pt x="2679" y="5904"/>
                </a:moveTo>
                <a:cubicBezTo>
                  <a:pt x="2631" y="5856"/>
                  <a:pt x="2573" y="5771"/>
                  <a:pt x="2505" y="5755"/>
                </a:cubicBezTo>
                <a:cubicBezTo>
                  <a:pt x="2461" y="5745"/>
                  <a:pt x="2370" y="5780"/>
                  <a:pt x="2356" y="5829"/>
                </a:cubicBezTo>
                <a:cubicBezTo>
                  <a:pt x="2338" y="5893"/>
                  <a:pt x="2318" y="5983"/>
                  <a:pt x="2332" y="6052"/>
                </a:cubicBezTo>
                <a:cubicBezTo>
                  <a:pt x="2352" y="6151"/>
                  <a:pt x="2391" y="6251"/>
                  <a:pt x="2406" y="6350"/>
                </a:cubicBezTo>
                <a:cubicBezTo>
                  <a:pt x="2417" y="6426"/>
                  <a:pt x="2444" y="6507"/>
                  <a:pt x="2456" y="6573"/>
                </a:cubicBezTo>
                <a:cubicBezTo>
                  <a:pt x="2456" y="6618"/>
                  <a:pt x="2459" y="6631"/>
                  <a:pt x="2431" y="6648"/>
                </a:cubicBezTo>
              </a:path>
              <a:path w="4813" h="1391">
                <a:moveTo>
                  <a:pt x="2232" y="6350"/>
                </a:moveTo>
                <a:cubicBezTo>
                  <a:pt x="2332" y="6350"/>
                  <a:pt x="2414" y="6337"/>
                  <a:pt x="2505" y="6325"/>
                </a:cubicBezTo>
                <a:cubicBezTo>
                  <a:pt x="2580" y="6325"/>
                  <a:pt x="2604" y="6325"/>
                  <a:pt x="2654" y="6325"/>
                </a:cubicBezTo>
              </a:path>
              <a:path w="4813" h="1391">
                <a:moveTo>
                  <a:pt x="3076" y="6003"/>
                </a:moveTo>
                <a:cubicBezTo>
                  <a:pt x="3069" y="6118"/>
                  <a:pt x="3021" y="6261"/>
                  <a:pt x="3051" y="6375"/>
                </a:cubicBezTo>
                <a:cubicBezTo>
                  <a:pt x="3068" y="6438"/>
                  <a:pt x="3080" y="6513"/>
                  <a:pt x="3101" y="6573"/>
                </a:cubicBezTo>
                <a:cubicBezTo>
                  <a:pt x="3101" y="6565"/>
                  <a:pt x="3101" y="6556"/>
                  <a:pt x="3101" y="6548"/>
                </a:cubicBezTo>
              </a:path>
              <a:path w="4813" h="1391">
                <a:moveTo>
                  <a:pt x="2853" y="6300"/>
                </a:moveTo>
                <a:cubicBezTo>
                  <a:pt x="2946" y="6300"/>
                  <a:pt x="3016" y="6287"/>
                  <a:pt x="3101" y="6276"/>
                </a:cubicBezTo>
                <a:cubicBezTo>
                  <a:pt x="3195" y="6264"/>
                  <a:pt x="3274" y="6289"/>
                  <a:pt x="3373" y="6276"/>
                </a:cubicBezTo>
                <a:cubicBezTo>
                  <a:pt x="3464" y="6264"/>
                  <a:pt x="3512" y="6269"/>
                  <a:pt x="3597" y="6226"/>
                </a:cubicBezTo>
                <a:cubicBezTo>
                  <a:pt x="3540" y="6271"/>
                  <a:pt x="3469" y="6290"/>
                  <a:pt x="3423" y="6350"/>
                </a:cubicBezTo>
                <a:cubicBezTo>
                  <a:pt x="3389" y="6394"/>
                  <a:pt x="3310" y="6463"/>
                  <a:pt x="3324" y="6524"/>
                </a:cubicBezTo>
                <a:cubicBezTo>
                  <a:pt x="3345" y="6612"/>
                  <a:pt x="3434" y="6612"/>
                  <a:pt x="3497" y="6573"/>
                </a:cubicBezTo>
                <a:cubicBezTo>
                  <a:pt x="3571" y="6527"/>
                  <a:pt x="3566" y="6514"/>
                  <a:pt x="3597" y="6449"/>
                </a:cubicBezTo>
                <a:cubicBezTo>
                  <a:pt x="3623" y="6395"/>
                  <a:pt x="3638" y="6341"/>
                  <a:pt x="3646" y="6276"/>
                </a:cubicBezTo>
                <a:cubicBezTo>
                  <a:pt x="3596" y="6357"/>
                  <a:pt x="3635" y="6425"/>
                  <a:pt x="3646" y="6524"/>
                </a:cubicBezTo>
                <a:cubicBezTo>
                  <a:pt x="3655" y="6606"/>
                  <a:pt x="3668" y="6691"/>
                  <a:pt x="3671" y="6772"/>
                </a:cubicBezTo>
                <a:cubicBezTo>
                  <a:pt x="3676" y="6881"/>
                  <a:pt x="3675" y="6905"/>
                  <a:pt x="3597" y="6970"/>
                </a:cubicBezTo>
                <a:cubicBezTo>
                  <a:pt x="3552" y="7008"/>
                  <a:pt x="3487" y="7059"/>
                  <a:pt x="3423" y="7045"/>
                </a:cubicBezTo>
                <a:cubicBezTo>
                  <a:pt x="3331" y="7024"/>
                  <a:pt x="3338" y="6993"/>
                  <a:pt x="3324" y="6921"/>
                </a:cubicBezTo>
              </a:path>
              <a:path w="4813" h="1391">
                <a:moveTo>
                  <a:pt x="2158" y="5655"/>
                </a:moveTo>
                <a:cubicBezTo>
                  <a:pt x="2148" y="5747"/>
                  <a:pt x="2134" y="5838"/>
                  <a:pt x="2108" y="5928"/>
                </a:cubicBezTo>
                <a:cubicBezTo>
                  <a:pt x="2073" y="6050"/>
                  <a:pt x="2084" y="6173"/>
                  <a:pt x="2084" y="6300"/>
                </a:cubicBezTo>
                <a:cubicBezTo>
                  <a:pt x="2084" y="6396"/>
                  <a:pt x="2090" y="6535"/>
                  <a:pt x="2133" y="6623"/>
                </a:cubicBezTo>
                <a:cubicBezTo>
                  <a:pt x="2178" y="6716"/>
                  <a:pt x="2260" y="6790"/>
                  <a:pt x="2356" y="6821"/>
                </a:cubicBezTo>
                <a:cubicBezTo>
                  <a:pt x="2448" y="6844"/>
                  <a:pt x="2473" y="6850"/>
                  <a:pt x="2530" y="6871"/>
                </a:cubicBezTo>
              </a:path>
              <a:path w="4813" h="1391">
                <a:moveTo>
                  <a:pt x="3969" y="5730"/>
                </a:moveTo>
                <a:cubicBezTo>
                  <a:pt x="4057" y="5818"/>
                  <a:pt x="4138" y="5901"/>
                  <a:pt x="4167" y="6028"/>
                </a:cubicBezTo>
                <a:cubicBezTo>
                  <a:pt x="4195" y="6151"/>
                  <a:pt x="4199" y="6277"/>
                  <a:pt x="4167" y="6400"/>
                </a:cubicBezTo>
                <a:cubicBezTo>
                  <a:pt x="4142" y="6496"/>
                  <a:pt x="4098" y="6616"/>
                  <a:pt x="4043" y="6697"/>
                </a:cubicBezTo>
                <a:cubicBezTo>
                  <a:pt x="4001" y="6758"/>
                  <a:pt x="3965" y="6807"/>
                  <a:pt x="3894" y="6821"/>
                </a:cubicBezTo>
              </a:path>
              <a:path w="4813" h="1391">
                <a:moveTo>
                  <a:pt x="4564" y="5705"/>
                </a:moveTo>
                <a:cubicBezTo>
                  <a:pt x="4530" y="5796"/>
                  <a:pt x="4498" y="5858"/>
                  <a:pt x="4465" y="5953"/>
                </a:cubicBezTo>
                <a:cubicBezTo>
                  <a:pt x="4424" y="6072"/>
                  <a:pt x="4400" y="6201"/>
                  <a:pt x="4390" y="6325"/>
                </a:cubicBezTo>
                <a:cubicBezTo>
                  <a:pt x="4381" y="6426"/>
                  <a:pt x="4401" y="6557"/>
                  <a:pt x="4440" y="6648"/>
                </a:cubicBezTo>
                <a:cubicBezTo>
                  <a:pt x="4465" y="6708"/>
                  <a:pt x="4493" y="6780"/>
                  <a:pt x="4564" y="6796"/>
                </a:cubicBezTo>
                <a:cubicBezTo>
                  <a:pt x="4613" y="6807"/>
                  <a:pt x="4647" y="6770"/>
                  <a:pt x="4688" y="6747"/>
                </a:cubicBezTo>
              </a:path>
              <a:path w="4813" h="1391">
                <a:moveTo>
                  <a:pt x="4787" y="6251"/>
                </a:moveTo>
                <a:cubicBezTo>
                  <a:pt x="4857" y="6363"/>
                  <a:pt x="4897" y="6485"/>
                  <a:pt x="5011" y="6548"/>
                </a:cubicBezTo>
                <a:cubicBezTo>
                  <a:pt x="5077" y="6585"/>
                  <a:pt x="5108" y="6639"/>
                  <a:pt x="5184" y="6598"/>
                </a:cubicBezTo>
                <a:cubicBezTo>
                  <a:pt x="5192" y="6590"/>
                  <a:pt x="5201" y="6581"/>
                  <a:pt x="5209" y="6573"/>
                </a:cubicBezTo>
              </a:path>
              <a:path w="4813" h="1391">
                <a:moveTo>
                  <a:pt x="5035" y="6201"/>
                </a:moveTo>
                <a:cubicBezTo>
                  <a:pt x="4995" y="6284"/>
                  <a:pt x="4954" y="6370"/>
                  <a:pt x="4911" y="6449"/>
                </a:cubicBezTo>
                <a:cubicBezTo>
                  <a:pt x="4866" y="6531"/>
                  <a:pt x="4829" y="6613"/>
                  <a:pt x="4787" y="6697"/>
                </a:cubicBezTo>
                <a:cubicBezTo>
                  <a:pt x="4762" y="6747"/>
                  <a:pt x="4754" y="6763"/>
                  <a:pt x="4738" y="6796"/>
                </a:cubicBezTo>
              </a:path>
              <a:path w="4813" h="1391">
                <a:moveTo>
                  <a:pt x="5184" y="5680"/>
                </a:moveTo>
                <a:cubicBezTo>
                  <a:pt x="5287" y="5727"/>
                  <a:pt x="5360" y="5792"/>
                  <a:pt x="5407" y="5904"/>
                </a:cubicBezTo>
                <a:cubicBezTo>
                  <a:pt x="5511" y="6151"/>
                  <a:pt x="5529" y="6201"/>
                  <a:pt x="5457" y="6424"/>
                </a:cubicBezTo>
                <a:cubicBezTo>
                  <a:pt x="5428" y="6514"/>
                  <a:pt x="5397" y="6579"/>
                  <a:pt x="5333" y="6648"/>
                </a:cubicBezTo>
                <a:cubicBezTo>
                  <a:pt x="5287" y="6698"/>
                  <a:pt x="5269" y="6707"/>
                  <a:pt x="5209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6"/>
          <p:cNvSpPr/>
          <p:nvPr/>
        </p:nvSpPr>
        <p:spPr>
          <a:xfrm>
            <a:off x="2276640" y="2098800"/>
            <a:ext cx="1635120" cy="571320"/>
          </a:xfrm>
          <a:custGeom>
            <a:avLst/>
            <a:gdLst/>
            <a:ahLst/>
            <a:rect l="l" t="t" r="r" b="b"/>
            <a:pathLst>
              <a:path w="4540" h="1589">
                <a:moveTo>
                  <a:pt x="6648" y="5854"/>
                </a:moveTo>
                <a:cubicBezTo>
                  <a:pt x="6648" y="5958"/>
                  <a:pt x="6663" y="6052"/>
                  <a:pt x="6672" y="6152"/>
                </a:cubicBezTo>
                <a:cubicBezTo>
                  <a:pt x="6683" y="6269"/>
                  <a:pt x="6684" y="6385"/>
                  <a:pt x="6697" y="6499"/>
                </a:cubicBezTo>
                <a:cubicBezTo>
                  <a:pt x="6706" y="6583"/>
                  <a:pt x="6717" y="6666"/>
                  <a:pt x="6722" y="6747"/>
                </a:cubicBezTo>
                <a:cubicBezTo>
                  <a:pt x="6722" y="6763"/>
                  <a:pt x="6722" y="6780"/>
                  <a:pt x="6722" y="6796"/>
                </a:cubicBezTo>
                <a:cubicBezTo>
                  <a:pt x="6722" y="6935"/>
                  <a:pt x="6722" y="6707"/>
                  <a:pt x="6722" y="6697"/>
                </a:cubicBezTo>
                <a:cubicBezTo>
                  <a:pt x="6722" y="6602"/>
                  <a:pt x="6717" y="6530"/>
                  <a:pt x="6772" y="6449"/>
                </a:cubicBezTo>
                <a:cubicBezTo>
                  <a:pt x="6828" y="6367"/>
                  <a:pt x="6849" y="6360"/>
                  <a:pt x="6945" y="6400"/>
                </a:cubicBezTo>
                <a:cubicBezTo>
                  <a:pt x="7015" y="6429"/>
                  <a:pt x="7077" y="6496"/>
                  <a:pt x="7094" y="6573"/>
                </a:cubicBezTo>
                <a:cubicBezTo>
                  <a:pt x="7103" y="6616"/>
                  <a:pt x="7091" y="6724"/>
                  <a:pt x="7045" y="6747"/>
                </a:cubicBezTo>
                <a:cubicBezTo>
                  <a:pt x="6947" y="6796"/>
                  <a:pt x="6852" y="6821"/>
                  <a:pt x="6747" y="6821"/>
                </a:cubicBezTo>
                <a:cubicBezTo>
                  <a:pt x="6683" y="6821"/>
                  <a:pt x="6657" y="6818"/>
                  <a:pt x="6598" y="6796"/>
                </a:cubicBezTo>
              </a:path>
              <a:path w="4540" h="1589">
                <a:moveTo>
                  <a:pt x="6449" y="6077"/>
                </a:moveTo>
                <a:cubicBezTo>
                  <a:pt x="6383" y="6153"/>
                  <a:pt x="6339" y="6221"/>
                  <a:pt x="6325" y="6325"/>
                </a:cubicBezTo>
                <a:cubicBezTo>
                  <a:pt x="6308" y="6450"/>
                  <a:pt x="6314" y="6603"/>
                  <a:pt x="6350" y="6722"/>
                </a:cubicBezTo>
                <a:cubicBezTo>
                  <a:pt x="6374" y="6803"/>
                  <a:pt x="6399" y="6908"/>
                  <a:pt x="6474" y="6945"/>
                </a:cubicBezTo>
                <a:cubicBezTo>
                  <a:pt x="6552" y="6984"/>
                  <a:pt x="6576" y="6988"/>
                  <a:pt x="6648" y="6970"/>
                </a:cubicBezTo>
              </a:path>
              <a:path w="4540" h="1589">
                <a:moveTo>
                  <a:pt x="7119" y="6003"/>
                </a:moveTo>
                <a:cubicBezTo>
                  <a:pt x="7198" y="6122"/>
                  <a:pt x="7231" y="6206"/>
                  <a:pt x="7243" y="6350"/>
                </a:cubicBezTo>
                <a:cubicBezTo>
                  <a:pt x="7252" y="6450"/>
                  <a:pt x="7220" y="6561"/>
                  <a:pt x="7169" y="6648"/>
                </a:cubicBezTo>
                <a:cubicBezTo>
                  <a:pt x="7117" y="6737"/>
                  <a:pt x="7034" y="6798"/>
                  <a:pt x="6945" y="6846"/>
                </a:cubicBezTo>
                <a:cubicBezTo>
                  <a:pt x="6884" y="6879"/>
                  <a:pt x="6874" y="6878"/>
                  <a:pt x="6821" y="6846"/>
                </a:cubicBezTo>
              </a:path>
              <a:path w="4540" h="1589">
                <a:moveTo>
                  <a:pt x="8111" y="6028"/>
                </a:moveTo>
                <a:cubicBezTo>
                  <a:pt x="8179" y="6049"/>
                  <a:pt x="8116" y="5969"/>
                  <a:pt x="8086" y="5928"/>
                </a:cubicBezTo>
                <a:cubicBezTo>
                  <a:pt x="8036" y="5861"/>
                  <a:pt x="8009" y="5825"/>
                  <a:pt x="7938" y="5854"/>
                </a:cubicBezTo>
                <a:cubicBezTo>
                  <a:pt x="7849" y="5891"/>
                  <a:pt x="7829" y="5959"/>
                  <a:pt x="7813" y="6052"/>
                </a:cubicBezTo>
                <a:cubicBezTo>
                  <a:pt x="7796" y="6154"/>
                  <a:pt x="7828" y="6251"/>
                  <a:pt x="7838" y="6350"/>
                </a:cubicBezTo>
                <a:cubicBezTo>
                  <a:pt x="7849" y="6456"/>
                  <a:pt x="7865" y="6569"/>
                  <a:pt x="7888" y="6672"/>
                </a:cubicBezTo>
                <a:cubicBezTo>
                  <a:pt x="7901" y="6731"/>
                  <a:pt x="7946" y="6861"/>
                  <a:pt x="7913" y="6921"/>
                </a:cubicBezTo>
                <a:cubicBezTo>
                  <a:pt x="7905" y="6921"/>
                  <a:pt x="7896" y="6921"/>
                  <a:pt x="7888" y="6921"/>
                </a:cubicBezTo>
              </a:path>
              <a:path w="4540" h="1589">
                <a:moveTo>
                  <a:pt x="7665" y="6598"/>
                </a:moveTo>
                <a:cubicBezTo>
                  <a:pt x="7773" y="6598"/>
                  <a:pt x="7858" y="6578"/>
                  <a:pt x="7962" y="6573"/>
                </a:cubicBezTo>
                <a:cubicBezTo>
                  <a:pt x="8014" y="6573"/>
                  <a:pt x="8032" y="6572"/>
                  <a:pt x="8062" y="6548"/>
                </a:cubicBezTo>
              </a:path>
              <a:path w="4540" h="1589">
                <a:moveTo>
                  <a:pt x="7640" y="5978"/>
                </a:moveTo>
                <a:cubicBezTo>
                  <a:pt x="7591" y="6096"/>
                  <a:pt x="7548" y="6202"/>
                  <a:pt x="7516" y="6325"/>
                </a:cubicBezTo>
                <a:cubicBezTo>
                  <a:pt x="7488" y="6435"/>
                  <a:pt x="7491" y="6535"/>
                  <a:pt x="7491" y="6648"/>
                </a:cubicBezTo>
                <a:cubicBezTo>
                  <a:pt x="7491" y="6754"/>
                  <a:pt x="7503" y="6829"/>
                  <a:pt x="7565" y="6921"/>
                </a:cubicBezTo>
                <a:cubicBezTo>
                  <a:pt x="7595" y="6950"/>
                  <a:pt x="7610" y="6961"/>
                  <a:pt x="7640" y="6970"/>
                </a:cubicBezTo>
              </a:path>
              <a:path w="4540" h="1589">
                <a:moveTo>
                  <a:pt x="8161" y="6623"/>
                </a:moveTo>
                <a:cubicBezTo>
                  <a:pt x="8301" y="6615"/>
                  <a:pt x="8368" y="6615"/>
                  <a:pt x="8508" y="6623"/>
                </a:cubicBezTo>
              </a:path>
              <a:path w="4540" h="1589">
                <a:moveTo>
                  <a:pt x="9178" y="6499"/>
                </a:moveTo>
                <a:cubicBezTo>
                  <a:pt x="9108" y="6475"/>
                  <a:pt x="9012" y="6515"/>
                  <a:pt x="8930" y="6548"/>
                </a:cubicBezTo>
                <a:cubicBezTo>
                  <a:pt x="8849" y="6581"/>
                  <a:pt x="8769" y="6671"/>
                  <a:pt x="8731" y="6747"/>
                </a:cubicBezTo>
                <a:cubicBezTo>
                  <a:pt x="8688" y="6833"/>
                  <a:pt x="8723" y="6864"/>
                  <a:pt x="8781" y="6921"/>
                </a:cubicBezTo>
                <a:cubicBezTo>
                  <a:pt x="8822" y="6961"/>
                  <a:pt x="8908" y="6944"/>
                  <a:pt x="8954" y="6921"/>
                </a:cubicBezTo>
                <a:cubicBezTo>
                  <a:pt x="8991" y="6902"/>
                  <a:pt x="9039" y="6830"/>
                  <a:pt x="9054" y="6796"/>
                </a:cubicBezTo>
                <a:cubicBezTo>
                  <a:pt x="9081" y="6737"/>
                  <a:pt x="9081" y="6682"/>
                  <a:pt x="9103" y="6623"/>
                </a:cubicBezTo>
                <a:cubicBezTo>
                  <a:pt x="9103" y="6711"/>
                  <a:pt x="9119" y="6787"/>
                  <a:pt x="9128" y="6871"/>
                </a:cubicBezTo>
                <a:cubicBezTo>
                  <a:pt x="9137" y="6955"/>
                  <a:pt x="9168" y="7089"/>
                  <a:pt x="9153" y="7169"/>
                </a:cubicBezTo>
                <a:cubicBezTo>
                  <a:pt x="9144" y="7218"/>
                  <a:pt x="9119" y="7330"/>
                  <a:pt x="9079" y="7367"/>
                </a:cubicBezTo>
                <a:cubicBezTo>
                  <a:pt x="9034" y="7409"/>
                  <a:pt x="8939" y="7434"/>
                  <a:pt x="8880" y="7417"/>
                </a:cubicBezTo>
                <a:cubicBezTo>
                  <a:pt x="8809" y="7397"/>
                  <a:pt x="8741" y="7353"/>
                  <a:pt x="8706" y="7293"/>
                </a:cubicBezTo>
                <a:cubicBezTo>
                  <a:pt x="8698" y="7276"/>
                  <a:pt x="8690" y="7260"/>
                  <a:pt x="8682" y="7243"/>
                </a:cubicBezTo>
              </a:path>
              <a:path w="4540" h="1589">
                <a:moveTo>
                  <a:pt x="9252" y="5904"/>
                </a:moveTo>
                <a:cubicBezTo>
                  <a:pt x="9362" y="6022"/>
                  <a:pt x="9468" y="6123"/>
                  <a:pt x="9525" y="6276"/>
                </a:cubicBezTo>
                <a:cubicBezTo>
                  <a:pt x="9573" y="6405"/>
                  <a:pt x="9594" y="6561"/>
                  <a:pt x="9599" y="6697"/>
                </a:cubicBezTo>
                <a:cubicBezTo>
                  <a:pt x="9602" y="6791"/>
                  <a:pt x="9583" y="6916"/>
                  <a:pt x="9525" y="6995"/>
                </a:cubicBezTo>
                <a:cubicBezTo>
                  <a:pt x="9472" y="7067"/>
                  <a:pt x="9408" y="7110"/>
                  <a:pt x="9351" y="7144"/>
                </a:cubicBezTo>
                <a:cubicBezTo>
                  <a:pt x="9323" y="7173"/>
                  <a:pt x="9310" y="7181"/>
                  <a:pt x="9277" y="7169"/>
                </a:cubicBezTo>
              </a:path>
              <a:path w="4540" h="1589">
                <a:moveTo>
                  <a:pt x="9872" y="6152"/>
                </a:moveTo>
                <a:cubicBezTo>
                  <a:pt x="9824" y="6284"/>
                  <a:pt x="9777" y="6406"/>
                  <a:pt x="9773" y="6548"/>
                </a:cubicBezTo>
                <a:cubicBezTo>
                  <a:pt x="9769" y="6670"/>
                  <a:pt x="9772" y="6760"/>
                  <a:pt x="9823" y="6871"/>
                </a:cubicBezTo>
                <a:cubicBezTo>
                  <a:pt x="9859" y="6949"/>
                  <a:pt x="9908" y="6972"/>
                  <a:pt x="9971" y="7020"/>
                </a:cubicBezTo>
                <a:cubicBezTo>
                  <a:pt x="10019" y="7056"/>
                  <a:pt x="10024" y="7048"/>
                  <a:pt x="10071" y="7020"/>
                </a:cubicBezTo>
              </a:path>
              <a:path w="4540" h="1589">
                <a:moveTo>
                  <a:pt x="10120" y="6598"/>
                </a:moveTo>
                <a:cubicBezTo>
                  <a:pt x="10233" y="6706"/>
                  <a:pt x="10344" y="6803"/>
                  <a:pt x="10468" y="6896"/>
                </a:cubicBezTo>
                <a:cubicBezTo>
                  <a:pt x="10525" y="6939"/>
                  <a:pt x="10621" y="7014"/>
                  <a:pt x="10691" y="6945"/>
                </a:cubicBezTo>
                <a:cubicBezTo>
                  <a:pt x="10691" y="6937"/>
                  <a:pt x="10691" y="6929"/>
                  <a:pt x="10691" y="6921"/>
                </a:cubicBezTo>
              </a:path>
              <a:path w="4540" h="1589">
                <a:moveTo>
                  <a:pt x="10418" y="6573"/>
                </a:moveTo>
                <a:cubicBezTo>
                  <a:pt x="10341" y="6722"/>
                  <a:pt x="10234" y="6889"/>
                  <a:pt x="10170" y="7045"/>
                </a:cubicBezTo>
                <a:cubicBezTo>
                  <a:pt x="10151" y="7119"/>
                  <a:pt x="10117" y="7152"/>
                  <a:pt x="10170" y="7144"/>
                </a:cubicBezTo>
              </a:path>
              <a:path w="4540" h="1589">
                <a:moveTo>
                  <a:pt x="10418" y="5953"/>
                </a:moveTo>
                <a:cubicBezTo>
                  <a:pt x="10580" y="6088"/>
                  <a:pt x="10653" y="6180"/>
                  <a:pt x="10740" y="6375"/>
                </a:cubicBezTo>
                <a:cubicBezTo>
                  <a:pt x="10811" y="6533"/>
                  <a:pt x="10859" y="6673"/>
                  <a:pt x="10864" y="6846"/>
                </a:cubicBezTo>
                <a:cubicBezTo>
                  <a:pt x="10866" y="6933"/>
                  <a:pt x="10863" y="7096"/>
                  <a:pt x="10815" y="7169"/>
                </a:cubicBezTo>
                <a:cubicBezTo>
                  <a:pt x="10774" y="7231"/>
                  <a:pt x="10730" y="7281"/>
                  <a:pt x="10666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7"/>
          <p:cNvSpPr/>
          <p:nvPr/>
        </p:nvSpPr>
        <p:spPr>
          <a:xfrm>
            <a:off x="4313160" y="2178000"/>
            <a:ext cx="1482840" cy="600120"/>
          </a:xfrm>
          <a:custGeom>
            <a:avLst/>
            <a:gdLst/>
            <a:ahLst/>
            <a:rect l="l" t="t" r="r" b="b"/>
            <a:pathLst>
              <a:path w="4118" h="1663">
                <a:moveTo>
                  <a:pt x="12576" y="6598"/>
                </a:moveTo>
                <a:cubicBezTo>
                  <a:pt x="12603" y="6665"/>
                  <a:pt x="12617" y="6684"/>
                  <a:pt x="12626" y="6747"/>
                </a:cubicBezTo>
                <a:cubicBezTo>
                  <a:pt x="12614" y="6651"/>
                  <a:pt x="12573" y="6619"/>
                  <a:pt x="12502" y="6548"/>
                </a:cubicBezTo>
                <a:cubicBezTo>
                  <a:pt x="12467" y="6513"/>
                  <a:pt x="12384" y="6561"/>
                  <a:pt x="12353" y="6598"/>
                </a:cubicBezTo>
                <a:cubicBezTo>
                  <a:pt x="12302" y="6658"/>
                  <a:pt x="12258" y="6771"/>
                  <a:pt x="12254" y="6846"/>
                </a:cubicBezTo>
                <a:cubicBezTo>
                  <a:pt x="12247" y="6968"/>
                  <a:pt x="12264" y="6960"/>
                  <a:pt x="12378" y="7020"/>
                </a:cubicBezTo>
                <a:cubicBezTo>
                  <a:pt x="12459" y="7063"/>
                  <a:pt x="12516" y="7043"/>
                  <a:pt x="12601" y="7020"/>
                </a:cubicBezTo>
              </a:path>
              <a:path w="4118" h="1663">
                <a:moveTo>
                  <a:pt x="12030" y="6499"/>
                </a:moveTo>
                <a:cubicBezTo>
                  <a:pt x="11992" y="6607"/>
                  <a:pt x="11960" y="6703"/>
                  <a:pt x="11981" y="6821"/>
                </a:cubicBezTo>
                <a:cubicBezTo>
                  <a:pt x="11999" y="6921"/>
                  <a:pt x="12015" y="6990"/>
                  <a:pt x="12080" y="7069"/>
                </a:cubicBezTo>
                <a:cubicBezTo>
                  <a:pt x="12152" y="7156"/>
                  <a:pt x="12248" y="7196"/>
                  <a:pt x="12353" y="7169"/>
                </a:cubicBezTo>
                <a:cubicBezTo>
                  <a:pt x="12369" y="7161"/>
                  <a:pt x="12386" y="7152"/>
                  <a:pt x="12402" y="7144"/>
                </a:cubicBezTo>
              </a:path>
              <a:path w="4118" h="1663">
                <a:moveTo>
                  <a:pt x="12675" y="6400"/>
                </a:moveTo>
                <a:cubicBezTo>
                  <a:pt x="12816" y="6501"/>
                  <a:pt x="12851" y="6551"/>
                  <a:pt x="12923" y="6722"/>
                </a:cubicBezTo>
                <a:cubicBezTo>
                  <a:pt x="12967" y="6825"/>
                  <a:pt x="12944" y="6877"/>
                  <a:pt x="12898" y="6970"/>
                </a:cubicBezTo>
                <a:cubicBezTo>
                  <a:pt x="12872" y="7024"/>
                  <a:pt x="12841" y="7052"/>
                  <a:pt x="12799" y="7094"/>
                </a:cubicBezTo>
                <a:cubicBezTo>
                  <a:pt x="12756" y="7137"/>
                  <a:pt x="12772" y="7143"/>
                  <a:pt x="12725" y="7119"/>
                </a:cubicBezTo>
              </a:path>
              <a:path w="4118" h="1663">
                <a:moveTo>
                  <a:pt x="14064" y="6300"/>
                </a:moveTo>
                <a:cubicBezTo>
                  <a:pt x="14089" y="6325"/>
                  <a:pt x="14097" y="6333"/>
                  <a:pt x="14114" y="6350"/>
                </a:cubicBezTo>
                <a:cubicBezTo>
                  <a:pt x="14160" y="6273"/>
                  <a:pt x="14119" y="6225"/>
                  <a:pt x="14064" y="6152"/>
                </a:cubicBezTo>
                <a:cubicBezTo>
                  <a:pt x="14020" y="6094"/>
                  <a:pt x="13979" y="6087"/>
                  <a:pt x="13915" y="6127"/>
                </a:cubicBezTo>
                <a:cubicBezTo>
                  <a:pt x="13872" y="6154"/>
                  <a:pt x="13825" y="6255"/>
                  <a:pt x="13816" y="6300"/>
                </a:cubicBezTo>
                <a:cubicBezTo>
                  <a:pt x="13794" y="6410"/>
                  <a:pt x="13806" y="6489"/>
                  <a:pt x="13816" y="6598"/>
                </a:cubicBezTo>
                <a:cubicBezTo>
                  <a:pt x="13827" y="6716"/>
                  <a:pt x="13854" y="6829"/>
                  <a:pt x="13866" y="6945"/>
                </a:cubicBezTo>
                <a:cubicBezTo>
                  <a:pt x="13876" y="7036"/>
                  <a:pt x="13854" y="7109"/>
                  <a:pt x="13891" y="7193"/>
                </a:cubicBezTo>
                <a:cubicBezTo>
                  <a:pt x="13899" y="7210"/>
                  <a:pt x="13907" y="7226"/>
                  <a:pt x="13915" y="7243"/>
                </a:cubicBezTo>
              </a:path>
              <a:path w="4118" h="1663">
                <a:moveTo>
                  <a:pt x="13667" y="6921"/>
                </a:moveTo>
                <a:cubicBezTo>
                  <a:pt x="13796" y="6921"/>
                  <a:pt x="13918" y="6911"/>
                  <a:pt x="14039" y="6896"/>
                </a:cubicBezTo>
                <a:cubicBezTo>
                  <a:pt x="14064" y="6896"/>
                  <a:pt x="14089" y="6896"/>
                  <a:pt x="14114" y="6896"/>
                </a:cubicBezTo>
              </a:path>
              <a:path w="4118" h="1663">
                <a:moveTo>
                  <a:pt x="14486" y="6796"/>
                </a:moveTo>
                <a:cubicBezTo>
                  <a:pt x="14400" y="6836"/>
                  <a:pt x="14322" y="6889"/>
                  <a:pt x="14263" y="6970"/>
                </a:cubicBezTo>
                <a:cubicBezTo>
                  <a:pt x="14223" y="7026"/>
                  <a:pt x="14158" y="7091"/>
                  <a:pt x="14188" y="7169"/>
                </a:cubicBezTo>
                <a:cubicBezTo>
                  <a:pt x="14203" y="7207"/>
                  <a:pt x="14331" y="7205"/>
                  <a:pt x="14362" y="7193"/>
                </a:cubicBezTo>
                <a:cubicBezTo>
                  <a:pt x="14403" y="7178"/>
                  <a:pt x="14430" y="7099"/>
                  <a:pt x="14436" y="7069"/>
                </a:cubicBezTo>
                <a:cubicBezTo>
                  <a:pt x="14451" y="6992"/>
                  <a:pt x="14471" y="6941"/>
                  <a:pt x="14436" y="6871"/>
                </a:cubicBezTo>
                <a:cubicBezTo>
                  <a:pt x="14436" y="6947"/>
                  <a:pt x="14444" y="7022"/>
                  <a:pt x="14461" y="7094"/>
                </a:cubicBezTo>
                <a:cubicBezTo>
                  <a:pt x="14491" y="7223"/>
                  <a:pt x="14555" y="7332"/>
                  <a:pt x="14560" y="7466"/>
                </a:cubicBezTo>
                <a:cubicBezTo>
                  <a:pt x="14562" y="7529"/>
                  <a:pt x="14576" y="7624"/>
                  <a:pt x="14511" y="7665"/>
                </a:cubicBezTo>
                <a:cubicBezTo>
                  <a:pt x="14419" y="7722"/>
                  <a:pt x="14314" y="7737"/>
                  <a:pt x="14213" y="7689"/>
                </a:cubicBezTo>
                <a:cubicBezTo>
                  <a:pt x="14139" y="7640"/>
                  <a:pt x="14114" y="7623"/>
                  <a:pt x="14064" y="7590"/>
                </a:cubicBezTo>
              </a:path>
              <a:path w="4118" h="1663">
                <a:moveTo>
                  <a:pt x="13568" y="6052"/>
                </a:moveTo>
                <a:cubicBezTo>
                  <a:pt x="13490" y="6201"/>
                  <a:pt x="13433" y="6332"/>
                  <a:pt x="13395" y="6499"/>
                </a:cubicBezTo>
                <a:cubicBezTo>
                  <a:pt x="13362" y="6645"/>
                  <a:pt x="13324" y="6794"/>
                  <a:pt x="13345" y="6945"/>
                </a:cubicBezTo>
                <a:cubicBezTo>
                  <a:pt x="13358" y="7041"/>
                  <a:pt x="13412" y="7207"/>
                  <a:pt x="13494" y="7268"/>
                </a:cubicBezTo>
                <a:cubicBezTo>
                  <a:pt x="13575" y="7328"/>
                  <a:pt x="13723" y="7336"/>
                  <a:pt x="13816" y="7342"/>
                </a:cubicBezTo>
              </a:path>
              <a:path w="4118" h="1663">
                <a:moveTo>
                  <a:pt x="14660" y="6152"/>
                </a:moveTo>
                <a:cubicBezTo>
                  <a:pt x="14773" y="6245"/>
                  <a:pt x="14807" y="6313"/>
                  <a:pt x="14858" y="6449"/>
                </a:cubicBezTo>
                <a:cubicBezTo>
                  <a:pt x="14924" y="6623"/>
                  <a:pt x="14932" y="6760"/>
                  <a:pt x="14932" y="6945"/>
                </a:cubicBezTo>
                <a:cubicBezTo>
                  <a:pt x="14932" y="7049"/>
                  <a:pt x="14886" y="7222"/>
                  <a:pt x="14833" y="7317"/>
                </a:cubicBezTo>
                <a:cubicBezTo>
                  <a:pt x="14801" y="7374"/>
                  <a:pt x="14746" y="7520"/>
                  <a:pt x="14709" y="7466"/>
                </a:cubicBezTo>
                <a:cubicBezTo>
                  <a:pt x="14709" y="7450"/>
                  <a:pt x="14709" y="7433"/>
                  <a:pt x="14709" y="7417"/>
                </a:cubicBezTo>
              </a:path>
              <a:path w="4118" h="1663">
                <a:moveTo>
                  <a:pt x="15329" y="6524"/>
                </a:moveTo>
                <a:cubicBezTo>
                  <a:pt x="15259" y="6622"/>
                  <a:pt x="15254" y="6687"/>
                  <a:pt x="15230" y="6796"/>
                </a:cubicBezTo>
                <a:cubicBezTo>
                  <a:pt x="15204" y="6913"/>
                  <a:pt x="15195" y="7003"/>
                  <a:pt x="15230" y="7119"/>
                </a:cubicBezTo>
                <a:cubicBezTo>
                  <a:pt x="15248" y="7179"/>
                  <a:pt x="15297" y="7291"/>
                  <a:pt x="15354" y="7317"/>
                </a:cubicBezTo>
                <a:cubicBezTo>
                  <a:pt x="15399" y="7317"/>
                  <a:pt x="15412" y="7314"/>
                  <a:pt x="15429" y="7342"/>
                </a:cubicBezTo>
              </a:path>
              <a:path w="4118" h="1663">
                <a:moveTo>
                  <a:pt x="15478" y="6921"/>
                </a:moveTo>
                <a:cubicBezTo>
                  <a:pt x="15654" y="7084"/>
                  <a:pt x="15689" y="7106"/>
                  <a:pt x="15850" y="7193"/>
                </a:cubicBezTo>
                <a:cubicBezTo>
                  <a:pt x="15878" y="7221"/>
                  <a:pt x="15892" y="7230"/>
                  <a:pt x="15925" y="7218"/>
                </a:cubicBezTo>
              </a:path>
              <a:path w="4118" h="1663">
                <a:moveTo>
                  <a:pt x="15726" y="6821"/>
                </a:moveTo>
                <a:cubicBezTo>
                  <a:pt x="15627" y="6991"/>
                  <a:pt x="15573" y="7114"/>
                  <a:pt x="15503" y="7293"/>
                </a:cubicBezTo>
                <a:cubicBezTo>
                  <a:pt x="15477" y="7359"/>
                  <a:pt x="15469" y="7360"/>
                  <a:pt x="15503" y="7417"/>
                </a:cubicBezTo>
              </a:path>
              <a:path w="4118" h="1663">
                <a:moveTo>
                  <a:pt x="15751" y="6226"/>
                </a:moveTo>
                <a:cubicBezTo>
                  <a:pt x="15881" y="6310"/>
                  <a:pt x="15956" y="6401"/>
                  <a:pt x="16024" y="6548"/>
                </a:cubicBezTo>
                <a:cubicBezTo>
                  <a:pt x="16105" y="6723"/>
                  <a:pt x="16115" y="6880"/>
                  <a:pt x="16073" y="7069"/>
                </a:cubicBezTo>
                <a:cubicBezTo>
                  <a:pt x="16054" y="7155"/>
                  <a:pt x="16008" y="7230"/>
                  <a:pt x="15949" y="7293"/>
                </a:cubicBezTo>
                <a:cubicBezTo>
                  <a:pt x="15908" y="7334"/>
                  <a:pt x="15900" y="7342"/>
                  <a:pt x="15875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8"/>
          <p:cNvSpPr/>
          <p:nvPr/>
        </p:nvSpPr>
        <p:spPr>
          <a:xfrm>
            <a:off x="6276960" y="1884240"/>
            <a:ext cx="1795320" cy="839880"/>
          </a:xfrm>
          <a:custGeom>
            <a:avLst/>
            <a:gdLst/>
            <a:ahLst/>
            <a:rect l="l" t="t" r="r" b="b"/>
            <a:pathLst>
              <a:path w="4986" h="2332">
                <a:moveTo>
                  <a:pt x="18256" y="6102"/>
                </a:moveTo>
                <a:cubicBezTo>
                  <a:pt x="18286" y="6211"/>
                  <a:pt x="18281" y="6309"/>
                  <a:pt x="18281" y="6424"/>
                </a:cubicBezTo>
                <a:cubicBezTo>
                  <a:pt x="18281" y="6571"/>
                  <a:pt x="18272" y="6706"/>
                  <a:pt x="18281" y="6846"/>
                </a:cubicBezTo>
                <a:cubicBezTo>
                  <a:pt x="18289" y="6966"/>
                  <a:pt x="18254" y="7115"/>
                  <a:pt x="18306" y="7218"/>
                </a:cubicBezTo>
                <a:cubicBezTo>
                  <a:pt x="18265" y="7157"/>
                  <a:pt x="18246" y="7085"/>
                  <a:pt x="18207" y="7020"/>
                </a:cubicBezTo>
                <a:cubicBezTo>
                  <a:pt x="18157" y="6937"/>
                  <a:pt x="18104" y="6900"/>
                  <a:pt x="18008" y="6896"/>
                </a:cubicBezTo>
                <a:cubicBezTo>
                  <a:pt x="17938" y="6893"/>
                  <a:pt x="17875" y="6907"/>
                  <a:pt x="17835" y="6970"/>
                </a:cubicBezTo>
                <a:cubicBezTo>
                  <a:pt x="17798" y="7028"/>
                  <a:pt x="17799" y="7080"/>
                  <a:pt x="17859" y="7119"/>
                </a:cubicBezTo>
                <a:cubicBezTo>
                  <a:pt x="17935" y="7168"/>
                  <a:pt x="17995" y="7169"/>
                  <a:pt x="18083" y="7169"/>
                </a:cubicBezTo>
                <a:cubicBezTo>
                  <a:pt x="18186" y="7169"/>
                  <a:pt x="18285" y="7180"/>
                  <a:pt x="18380" y="7144"/>
                </a:cubicBezTo>
              </a:path>
              <a:path w="4986" h="2332">
                <a:moveTo>
                  <a:pt x="17587" y="6375"/>
                </a:moveTo>
                <a:cubicBezTo>
                  <a:pt x="17489" y="6618"/>
                  <a:pt x="17408" y="6727"/>
                  <a:pt x="17462" y="6970"/>
                </a:cubicBezTo>
                <a:cubicBezTo>
                  <a:pt x="17489" y="7094"/>
                  <a:pt x="17523" y="7176"/>
                  <a:pt x="17611" y="7268"/>
                </a:cubicBezTo>
                <a:cubicBezTo>
                  <a:pt x="17685" y="7346"/>
                  <a:pt x="17781" y="7363"/>
                  <a:pt x="17884" y="7367"/>
                </a:cubicBezTo>
                <a:cubicBezTo>
                  <a:pt x="17960" y="7367"/>
                  <a:pt x="17986" y="7367"/>
                  <a:pt x="18033" y="7342"/>
                </a:cubicBezTo>
              </a:path>
              <a:path w="4986" h="2332">
                <a:moveTo>
                  <a:pt x="18380" y="6201"/>
                </a:moveTo>
                <a:cubicBezTo>
                  <a:pt x="18508" y="6366"/>
                  <a:pt x="18577" y="6472"/>
                  <a:pt x="18628" y="6672"/>
                </a:cubicBezTo>
                <a:cubicBezTo>
                  <a:pt x="18668" y="6831"/>
                  <a:pt x="18650" y="7018"/>
                  <a:pt x="18579" y="7169"/>
                </a:cubicBezTo>
                <a:cubicBezTo>
                  <a:pt x="18547" y="7238"/>
                  <a:pt x="18449" y="7296"/>
                  <a:pt x="18430" y="7367"/>
                </a:cubicBezTo>
                <a:cubicBezTo>
                  <a:pt x="18430" y="7412"/>
                  <a:pt x="18427" y="7432"/>
                  <a:pt x="18455" y="7392"/>
                </a:cubicBezTo>
              </a:path>
              <a:path w="4986" h="2332">
                <a:moveTo>
                  <a:pt x="19893" y="5432"/>
                </a:moveTo>
                <a:cubicBezTo>
                  <a:pt x="19887" y="5473"/>
                  <a:pt x="19890" y="5608"/>
                  <a:pt x="19869" y="5507"/>
                </a:cubicBezTo>
                <a:cubicBezTo>
                  <a:pt x="19851" y="5423"/>
                  <a:pt x="19818" y="5331"/>
                  <a:pt x="19769" y="5259"/>
                </a:cubicBezTo>
                <a:cubicBezTo>
                  <a:pt x="19761" y="5251"/>
                  <a:pt x="19753" y="5242"/>
                  <a:pt x="19745" y="5234"/>
                </a:cubicBezTo>
                <a:cubicBezTo>
                  <a:pt x="19646" y="5296"/>
                  <a:pt x="19648" y="5325"/>
                  <a:pt x="19621" y="5432"/>
                </a:cubicBezTo>
                <a:cubicBezTo>
                  <a:pt x="19596" y="5532"/>
                  <a:pt x="19596" y="5605"/>
                  <a:pt x="19621" y="5705"/>
                </a:cubicBezTo>
                <a:cubicBezTo>
                  <a:pt x="19642" y="5791"/>
                  <a:pt x="19645" y="5864"/>
                  <a:pt x="19645" y="5953"/>
                </a:cubicBezTo>
                <a:cubicBezTo>
                  <a:pt x="19645" y="6003"/>
                  <a:pt x="19645" y="6052"/>
                  <a:pt x="19645" y="6102"/>
                </a:cubicBezTo>
              </a:path>
              <a:path w="4986" h="2332">
                <a:moveTo>
                  <a:pt x="19496" y="5928"/>
                </a:moveTo>
                <a:cubicBezTo>
                  <a:pt x="19594" y="5928"/>
                  <a:pt x="19668" y="5907"/>
                  <a:pt x="19769" y="5904"/>
                </a:cubicBezTo>
                <a:cubicBezTo>
                  <a:pt x="19845" y="5904"/>
                  <a:pt x="19871" y="5904"/>
                  <a:pt x="19918" y="5879"/>
                </a:cubicBezTo>
              </a:path>
              <a:path w="4986" h="2332">
                <a:moveTo>
                  <a:pt x="20340" y="5581"/>
                </a:moveTo>
                <a:cubicBezTo>
                  <a:pt x="20250" y="5727"/>
                  <a:pt x="20212" y="5851"/>
                  <a:pt x="20141" y="6003"/>
                </a:cubicBezTo>
                <a:cubicBezTo>
                  <a:pt x="20080" y="6133"/>
                  <a:pt x="20024" y="6267"/>
                  <a:pt x="19968" y="6400"/>
                </a:cubicBezTo>
                <a:cubicBezTo>
                  <a:pt x="19922" y="6510"/>
                  <a:pt x="19860" y="6611"/>
                  <a:pt x="19819" y="6722"/>
                </a:cubicBezTo>
                <a:cubicBezTo>
                  <a:pt x="19809" y="6749"/>
                  <a:pt x="19719" y="6901"/>
                  <a:pt x="19720" y="6921"/>
                </a:cubicBezTo>
                <a:cubicBezTo>
                  <a:pt x="19740" y="6961"/>
                  <a:pt x="19749" y="6987"/>
                  <a:pt x="19745" y="6945"/>
                </a:cubicBezTo>
              </a:path>
              <a:path w="4986" h="2332">
                <a:moveTo>
                  <a:pt x="20414" y="6598"/>
                </a:moveTo>
                <a:cubicBezTo>
                  <a:pt x="20449" y="6563"/>
                  <a:pt x="20585" y="6466"/>
                  <a:pt x="20563" y="6400"/>
                </a:cubicBezTo>
                <a:cubicBezTo>
                  <a:pt x="20526" y="6290"/>
                  <a:pt x="20407" y="6381"/>
                  <a:pt x="20365" y="6400"/>
                </a:cubicBezTo>
                <a:cubicBezTo>
                  <a:pt x="20294" y="6432"/>
                  <a:pt x="20177" y="6492"/>
                  <a:pt x="20141" y="6573"/>
                </a:cubicBezTo>
                <a:cubicBezTo>
                  <a:pt x="20107" y="6650"/>
                  <a:pt x="20132" y="6663"/>
                  <a:pt x="20191" y="6722"/>
                </a:cubicBezTo>
                <a:cubicBezTo>
                  <a:pt x="20237" y="6768"/>
                  <a:pt x="20319" y="6759"/>
                  <a:pt x="20365" y="6722"/>
                </a:cubicBezTo>
                <a:cubicBezTo>
                  <a:pt x="20418" y="6679"/>
                  <a:pt x="20465" y="6622"/>
                  <a:pt x="20513" y="6573"/>
                </a:cubicBezTo>
                <a:cubicBezTo>
                  <a:pt x="20486" y="6676"/>
                  <a:pt x="20467" y="6790"/>
                  <a:pt x="20464" y="6896"/>
                </a:cubicBezTo>
                <a:cubicBezTo>
                  <a:pt x="20459" y="7065"/>
                  <a:pt x="20505" y="7285"/>
                  <a:pt x="20439" y="7441"/>
                </a:cubicBezTo>
                <a:cubicBezTo>
                  <a:pt x="20396" y="7543"/>
                  <a:pt x="20375" y="7560"/>
                  <a:pt x="20265" y="7565"/>
                </a:cubicBezTo>
                <a:cubicBezTo>
                  <a:pt x="20133" y="7571"/>
                  <a:pt x="20061" y="7519"/>
                  <a:pt x="19968" y="7441"/>
                </a:cubicBezTo>
              </a:path>
              <a:path w="4986" h="2332">
                <a:moveTo>
                  <a:pt x="19248" y="5308"/>
                </a:moveTo>
                <a:cubicBezTo>
                  <a:pt x="19201" y="5477"/>
                  <a:pt x="19138" y="5636"/>
                  <a:pt x="19100" y="5804"/>
                </a:cubicBezTo>
                <a:cubicBezTo>
                  <a:pt x="19064" y="5963"/>
                  <a:pt x="19018" y="6163"/>
                  <a:pt x="19025" y="6325"/>
                </a:cubicBezTo>
                <a:cubicBezTo>
                  <a:pt x="19031" y="6464"/>
                  <a:pt x="19044" y="6666"/>
                  <a:pt x="19100" y="6796"/>
                </a:cubicBezTo>
                <a:cubicBezTo>
                  <a:pt x="19141" y="6892"/>
                  <a:pt x="19229" y="6998"/>
                  <a:pt x="19323" y="7045"/>
                </a:cubicBezTo>
                <a:cubicBezTo>
                  <a:pt x="19404" y="7071"/>
                  <a:pt x="19435" y="7079"/>
                  <a:pt x="19496" y="7069"/>
                </a:cubicBezTo>
              </a:path>
              <a:path w="4986" h="2332">
                <a:moveTo>
                  <a:pt x="20786" y="5606"/>
                </a:moveTo>
                <a:cubicBezTo>
                  <a:pt x="20856" y="5810"/>
                  <a:pt x="20955" y="6028"/>
                  <a:pt x="20935" y="6251"/>
                </a:cubicBezTo>
                <a:cubicBezTo>
                  <a:pt x="20921" y="6410"/>
                  <a:pt x="20877" y="6578"/>
                  <a:pt x="20811" y="6722"/>
                </a:cubicBezTo>
                <a:cubicBezTo>
                  <a:pt x="20749" y="6857"/>
                  <a:pt x="20668" y="6965"/>
                  <a:pt x="20563" y="7069"/>
                </a:cubicBezTo>
                <a:cubicBezTo>
                  <a:pt x="20540" y="7092"/>
                  <a:pt x="20532" y="7096"/>
                  <a:pt x="20538" y="7119"/>
                </a:cubicBezTo>
              </a:path>
              <a:path w="4986" h="2332">
                <a:moveTo>
                  <a:pt x="21332" y="5779"/>
                </a:moveTo>
                <a:cubicBezTo>
                  <a:pt x="21277" y="5958"/>
                  <a:pt x="21222" y="6139"/>
                  <a:pt x="21208" y="6325"/>
                </a:cubicBezTo>
                <a:cubicBezTo>
                  <a:pt x="21197" y="6475"/>
                  <a:pt x="21190" y="6652"/>
                  <a:pt x="21233" y="6796"/>
                </a:cubicBezTo>
                <a:cubicBezTo>
                  <a:pt x="21263" y="6898"/>
                  <a:pt x="21292" y="6980"/>
                  <a:pt x="21382" y="7045"/>
                </a:cubicBezTo>
                <a:cubicBezTo>
                  <a:pt x="21430" y="7068"/>
                  <a:pt x="21444" y="7076"/>
                  <a:pt x="21481" y="7069"/>
                </a:cubicBezTo>
              </a:path>
              <a:path w="4986" h="2332">
                <a:moveTo>
                  <a:pt x="21654" y="6598"/>
                </a:moveTo>
                <a:cubicBezTo>
                  <a:pt x="21702" y="6700"/>
                  <a:pt x="21735" y="6824"/>
                  <a:pt x="21828" y="6896"/>
                </a:cubicBezTo>
                <a:cubicBezTo>
                  <a:pt x="21900" y="6952"/>
                  <a:pt x="21991" y="6963"/>
                  <a:pt x="22076" y="6970"/>
                </a:cubicBezTo>
              </a:path>
              <a:path w="4986" h="2332">
                <a:moveTo>
                  <a:pt x="21853" y="6499"/>
                </a:moveTo>
                <a:cubicBezTo>
                  <a:pt x="21767" y="6658"/>
                  <a:pt x="21682" y="6808"/>
                  <a:pt x="21605" y="6970"/>
                </a:cubicBezTo>
                <a:cubicBezTo>
                  <a:pt x="21576" y="7030"/>
                  <a:pt x="21527" y="7083"/>
                  <a:pt x="21580" y="7119"/>
                </a:cubicBezTo>
              </a:path>
              <a:path w="4986" h="2332">
                <a:moveTo>
                  <a:pt x="22151" y="5680"/>
                </a:moveTo>
                <a:cubicBezTo>
                  <a:pt x="22261" y="5868"/>
                  <a:pt x="22349" y="6039"/>
                  <a:pt x="22399" y="6251"/>
                </a:cubicBezTo>
                <a:cubicBezTo>
                  <a:pt x="22438" y="6415"/>
                  <a:pt x="22443" y="6628"/>
                  <a:pt x="22423" y="6796"/>
                </a:cubicBezTo>
                <a:cubicBezTo>
                  <a:pt x="22411" y="6897"/>
                  <a:pt x="22352" y="7082"/>
                  <a:pt x="22299" y="7169"/>
                </a:cubicBezTo>
                <a:cubicBezTo>
                  <a:pt x="22253" y="7215"/>
                  <a:pt x="22241" y="7229"/>
                  <a:pt x="22200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9"/>
          <p:cNvSpPr/>
          <p:nvPr/>
        </p:nvSpPr>
        <p:spPr>
          <a:xfrm>
            <a:off x="303120" y="2786040"/>
            <a:ext cx="1438200" cy="330120"/>
          </a:xfrm>
          <a:custGeom>
            <a:avLst/>
            <a:gdLst/>
            <a:ahLst/>
            <a:rect l="l" t="t" r="r" b="b"/>
            <a:pathLst>
              <a:path w="3995" h="919">
                <a:moveTo>
                  <a:pt x="1215" y="8161"/>
                </a:moveTo>
                <a:cubicBezTo>
                  <a:pt x="1299" y="8161"/>
                  <a:pt x="1339" y="8149"/>
                  <a:pt x="1414" y="8111"/>
                </a:cubicBezTo>
                <a:cubicBezTo>
                  <a:pt x="1456" y="8090"/>
                  <a:pt x="1522" y="8034"/>
                  <a:pt x="1513" y="7987"/>
                </a:cubicBezTo>
                <a:cubicBezTo>
                  <a:pt x="1498" y="7913"/>
                  <a:pt x="1426" y="7879"/>
                  <a:pt x="1364" y="7913"/>
                </a:cubicBezTo>
                <a:cubicBezTo>
                  <a:pt x="1315" y="7939"/>
                  <a:pt x="1248" y="7990"/>
                  <a:pt x="1215" y="8037"/>
                </a:cubicBezTo>
                <a:cubicBezTo>
                  <a:pt x="1173" y="8097"/>
                  <a:pt x="1163" y="8145"/>
                  <a:pt x="1141" y="8210"/>
                </a:cubicBezTo>
                <a:cubicBezTo>
                  <a:pt x="1117" y="8281"/>
                  <a:pt x="1132" y="8321"/>
                  <a:pt x="1166" y="8384"/>
                </a:cubicBezTo>
                <a:cubicBezTo>
                  <a:pt x="1193" y="8435"/>
                  <a:pt x="1227" y="8493"/>
                  <a:pt x="1290" y="8508"/>
                </a:cubicBezTo>
                <a:cubicBezTo>
                  <a:pt x="1333" y="8518"/>
                  <a:pt x="1395" y="8508"/>
                  <a:pt x="1439" y="8508"/>
                </a:cubicBezTo>
              </a:path>
              <a:path w="3995" h="919">
                <a:moveTo>
                  <a:pt x="1488" y="7764"/>
                </a:moveTo>
                <a:cubicBezTo>
                  <a:pt x="1579" y="7880"/>
                  <a:pt x="1624" y="7959"/>
                  <a:pt x="1687" y="8086"/>
                </a:cubicBezTo>
                <a:cubicBezTo>
                  <a:pt x="1734" y="8181"/>
                  <a:pt x="1756" y="8272"/>
                  <a:pt x="1736" y="8384"/>
                </a:cubicBezTo>
                <a:cubicBezTo>
                  <a:pt x="1728" y="8426"/>
                  <a:pt x="1691" y="8542"/>
                  <a:pt x="1637" y="8558"/>
                </a:cubicBezTo>
                <a:cubicBezTo>
                  <a:pt x="1593" y="8558"/>
                  <a:pt x="1579" y="8561"/>
                  <a:pt x="1563" y="8533"/>
                </a:cubicBezTo>
              </a:path>
              <a:path w="3995" h="919">
                <a:moveTo>
                  <a:pt x="1017" y="7838"/>
                </a:moveTo>
                <a:cubicBezTo>
                  <a:pt x="926" y="7993"/>
                  <a:pt x="850" y="8085"/>
                  <a:pt x="843" y="8260"/>
                </a:cubicBezTo>
                <a:cubicBezTo>
                  <a:pt x="839" y="8374"/>
                  <a:pt x="844" y="8441"/>
                  <a:pt x="918" y="8533"/>
                </a:cubicBezTo>
                <a:cubicBezTo>
                  <a:pt x="972" y="8600"/>
                  <a:pt x="1016" y="8622"/>
                  <a:pt x="1091" y="8657"/>
                </a:cubicBezTo>
              </a:path>
              <a:path w="3995" h="919">
                <a:moveTo>
                  <a:pt x="2431" y="8086"/>
                </a:moveTo>
                <a:cubicBezTo>
                  <a:pt x="2448" y="8168"/>
                  <a:pt x="2456" y="8227"/>
                  <a:pt x="2456" y="8310"/>
                </a:cubicBezTo>
                <a:cubicBezTo>
                  <a:pt x="2426" y="8242"/>
                  <a:pt x="2408" y="8189"/>
                  <a:pt x="2356" y="8136"/>
                </a:cubicBezTo>
                <a:cubicBezTo>
                  <a:pt x="2312" y="8091"/>
                  <a:pt x="2247" y="8068"/>
                  <a:pt x="2183" y="8086"/>
                </a:cubicBezTo>
                <a:cubicBezTo>
                  <a:pt x="2131" y="8101"/>
                  <a:pt x="2056" y="8187"/>
                  <a:pt x="2034" y="8235"/>
                </a:cubicBezTo>
                <a:cubicBezTo>
                  <a:pt x="1998" y="8313"/>
                  <a:pt x="1983" y="8442"/>
                  <a:pt x="2009" y="8508"/>
                </a:cubicBezTo>
                <a:cubicBezTo>
                  <a:pt x="2033" y="8570"/>
                  <a:pt x="2092" y="8617"/>
                  <a:pt x="2158" y="8632"/>
                </a:cubicBezTo>
                <a:cubicBezTo>
                  <a:pt x="2233" y="8649"/>
                  <a:pt x="2294" y="8599"/>
                  <a:pt x="2332" y="8558"/>
                </a:cubicBezTo>
                <a:cubicBezTo>
                  <a:pt x="2378" y="8511"/>
                  <a:pt x="2392" y="8499"/>
                  <a:pt x="2406" y="8458"/>
                </a:cubicBezTo>
              </a:path>
              <a:path w="3995" h="919">
                <a:moveTo>
                  <a:pt x="2406" y="7739"/>
                </a:moveTo>
                <a:cubicBezTo>
                  <a:pt x="2360" y="7847"/>
                  <a:pt x="2402" y="7964"/>
                  <a:pt x="2406" y="8086"/>
                </a:cubicBezTo>
                <a:cubicBezTo>
                  <a:pt x="2409" y="8190"/>
                  <a:pt x="2442" y="8283"/>
                  <a:pt x="2456" y="8384"/>
                </a:cubicBezTo>
                <a:cubicBezTo>
                  <a:pt x="2462" y="8430"/>
                  <a:pt x="2463" y="8532"/>
                  <a:pt x="2505" y="8558"/>
                </a:cubicBezTo>
                <a:cubicBezTo>
                  <a:pt x="2513" y="8558"/>
                  <a:pt x="2522" y="8558"/>
                  <a:pt x="2530" y="8558"/>
                </a:cubicBezTo>
              </a:path>
              <a:path w="3995" h="919">
                <a:moveTo>
                  <a:pt x="2580" y="8260"/>
                </a:moveTo>
                <a:cubicBezTo>
                  <a:pt x="2562" y="8344"/>
                  <a:pt x="2528" y="8435"/>
                  <a:pt x="2580" y="8508"/>
                </a:cubicBezTo>
                <a:cubicBezTo>
                  <a:pt x="2636" y="8586"/>
                  <a:pt x="2729" y="8563"/>
                  <a:pt x="2803" y="8533"/>
                </a:cubicBezTo>
                <a:cubicBezTo>
                  <a:pt x="2863" y="8509"/>
                  <a:pt x="2915" y="8450"/>
                  <a:pt x="2927" y="8384"/>
                </a:cubicBezTo>
                <a:cubicBezTo>
                  <a:pt x="2941" y="8304"/>
                  <a:pt x="2922" y="8227"/>
                  <a:pt x="2877" y="8161"/>
                </a:cubicBezTo>
                <a:cubicBezTo>
                  <a:pt x="2823" y="8083"/>
                  <a:pt x="2775" y="8104"/>
                  <a:pt x="2704" y="8111"/>
                </a:cubicBezTo>
                <a:cubicBezTo>
                  <a:pt x="2635" y="8118"/>
                  <a:pt x="2559" y="8192"/>
                  <a:pt x="2530" y="8260"/>
                </a:cubicBezTo>
                <a:cubicBezTo>
                  <a:pt x="2483" y="8370"/>
                  <a:pt x="2504" y="8380"/>
                  <a:pt x="2580" y="8434"/>
                </a:cubicBezTo>
              </a:path>
              <a:path w="3995" h="919">
                <a:moveTo>
                  <a:pt x="3026" y="8409"/>
                </a:moveTo>
                <a:cubicBezTo>
                  <a:pt x="3007" y="8503"/>
                  <a:pt x="2977" y="8566"/>
                  <a:pt x="3026" y="8508"/>
                </a:cubicBezTo>
                <a:cubicBezTo>
                  <a:pt x="3026" y="8409"/>
                  <a:pt x="3035" y="8327"/>
                  <a:pt x="3051" y="8235"/>
                </a:cubicBezTo>
                <a:cubicBezTo>
                  <a:pt x="3061" y="8174"/>
                  <a:pt x="3057" y="8180"/>
                  <a:pt x="3101" y="8136"/>
                </a:cubicBezTo>
                <a:cubicBezTo>
                  <a:pt x="3180" y="8182"/>
                  <a:pt x="3173" y="8185"/>
                  <a:pt x="3200" y="8260"/>
                </a:cubicBezTo>
                <a:cubicBezTo>
                  <a:pt x="3224" y="8329"/>
                  <a:pt x="3249" y="8391"/>
                  <a:pt x="3274" y="8458"/>
                </a:cubicBezTo>
                <a:cubicBezTo>
                  <a:pt x="3274" y="8586"/>
                  <a:pt x="3288" y="8294"/>
                  <a:pt x="3299" y="8260"/>
                </a:cubicBezTo>
                <a:cubicBezTo>
                  <a:pt x="3310" y="8227"/>
                  <a:pt x="3386" y="8147"/>
                  <a:pt x="3423" y="8136"/>
                </a:cubicBezTo>
                <a:cubicBezTo>
                  <a:pt x="3513" y="8110"/>
                  <a:pt x="3541" y="8199"/>
                  <a:pt x="3572" y="8260"/>
                </a:cubicBezTo>
                <a:cubicBezTo>
                  <a:pt x="3604" y="8324"/>
                  <a:pt x="3617" y="8411"/>
                  <a:pt x="3621" y="8483"/>
                </a:cubicBezTo>
                <a:cubicBezTo>
                  <a:pt x="3621" y="8533"/>
                  <a:pt x="3621" y="8549"/>
                  <a:pt x="3621" y="8582"/>
                </a:cubicBezTo>
              </a:path>
              <a:path w="3995" h="919">
                <a:moveTo>
                  <a:pt x="3894" y="8161"/>
                </a:moveTo>
                <a:cubicBezTo>
                  <a:pt x="3788" y="8222"/>
                  <a:pt x="3776" y="8268"/>
                  <a:pt x="3721" y="8384"/>
                </a:cubicBezTo>
                <a:cubicBezTo>
                  <a:pt x="3694" y="8441"/>
                  <a:pt x="3696" y="8471"/>
                  <a:pt x="3696" y="8533"/>
                </a:cubicBezTo>
                <a:cubicBezTo>
                  <a:pt x="3813" y="8533"/>
                  <a:pt x="3818" y="8539"/>
                  <a:pt x="3870" y="8434"/>
                </a:cubicBezTo>
                <a:cubicBezTo>
                  <a:pt x="3897" y="8379"/>
                  <a:pt x="3894" y="8345"/>
                  <a:pt x="3894" y="8285"/>
                </a:cubicBezTo>
                <a:cubicBezTo>
                  <a:pt x="3898" y="8336"/>
                  <a:pt x="3892" y="8479"/>
                  <a:pt x="3944" y="8508"/>
                </a:cubicBezTo>
                <a:cubicBezTo>
                  <a:pt x="4021" y="8551"/>
                  <a:pt x="4037" y="8528"/>
                  <a:pt x="4093" y="8483"/>
                </a:cubicBezTo>
              </a:path>
              <a:path w="3995" h="919">
                <a:moveTo>
                  <a:pt x="4242" y="8161"/>
                </a:moveTo>
                <a:cubicBezTo>
                  <a:pt x="4212" y="8211"/>
                  <a:pt x="4195" y="8271"/>
                  <a:pt x="4192" y="8334"/>
                </a:cubicBezTo>
                <a:cubicBezTo>
                  <a:pt x="4190" y="8381"/>
                  <a:pt x="4170" y="8504"/>
                  <a:pt x="4217" y="8533"/>
                </a:cubicBezTo>
                <a:cubicBezTo>
                  <a:pt x="4225" y="8533"/>
                  <a:pt x="4234" y="8533"/>
                  <a:pt x="4242" y="8533"/>
                </a:cubicBezTo>
              </a:path>
              <a:path w="3995" h="919">
                <a:moveTo>
                  <a:pt x="4118" y="7938"/>
                </a:moveTo>
                <a:cubicBezTo>
                  <a:pt x="4138" y="7897"/>
                  <a:pt x="4135" y="7880"/>
                  <a:pt x="4167" y="7888"/>
                </a:cubicBezTo>
              </a:path>
              <a:path w="3995" h="919">
                <a:moveTo>
                  <a:pt x="4390" y="8384"/>
                </a:moveTo>
                <a:cubicBezTo>
                  <a:pt x="4390" y="8467"/>
                  <a:pt x="4390" y="8483"/>
                  <a:pt x="4390" y="8533"/>
                </a:cubicBezTo>
                <a:cubicBezTo>
                  <a:pt x="4423" y="8479"/>
                  <a:pt x="4420" y="8420"/>
                  <a:pt x="4440" y="8359"/>
                </a:cubicBezTo>
                <a:cubicBezTo>
                  <a:pt x="4466" y="8282"/>
                  <a:pt x="4488" y="8227"/>
                  <a:pt x="4539" y="8161"/>
                </a:cubicBezTo>
                <a:cubicBezTo>
                  <a:pt x="4591" y="8093"/>
                  <a:pt x="4684" y="8151"/>
                  <a:pt x="4713" y="8210"/>
                </a:cubicBezTo>
                <a:cubicBezTo>
                  <a:pt x="4758" y="8301"/>
                  <a:pt x="4748" y="8400"/>
                  <a:pt x="4787" y="8483"/>
                </a:cubicBezTo>
                <a:cubicBezTo>
                  <a:pt x="4812" y="8508"/>
                  <a:pt x="4820" y="8516"/>
                  <a:pt x="4837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0"/>
          <p:cNvSpPr/>
          <p:nvPr/>
        </p:nvSpPr>
        <p:spPr>
          <a:xfrm>
            <a:off x="1884240" y="2803680"/>
            <a:ext cx="303480" cy="268200"/>
          </a:xfrm>
          <a:custGeom>
            <a:avLst/>
            <a:gdLst/>
            <a:ahLst/>
            <a:rect l="l" t="t" r="r" b="b"/>
            <a:pathLst>
              <a:path w="844" h="745">
                <a:moveTo>
                  <a:pt x="5383" y="8161"/>
                </a:moveTo>
                <a:cubicBezTo>
                  <a:pt x="5336" y="8225"/>
                  <a:pt x="5213" y="8339"/>
                  <a:pt x="5234" y="8434"/>
                </a:cubicBezTo>
                <a:cubicBezTo>
                  <a:pt x="5253" y="8517"/>
                  <a:pt x="5356" y="8554"/>
                  <a:pt x="5432" y="8533"/>
                </a:cubicBezTo>
                <a:cubicBezTo>
                  <a:pt x="5495" y="8515"/>
                  <a:pt x="5528" y="8462"/>
                  <a:pt x="5556" y="8409"/>
                </a:cubicBezTo>
                <a:cubicBezTo>
                  <a:pt x="5590" y="8345"/>
                  <a:pt x="5599" y="8268"/>
                  <a:pt x="5556" y="8210"/>
                </a:cubicBezTo>
                <a:cubicBezTo>
                  <a:pt x="5523" y="8165"/>
                  <a:pt x="5436" y="8140"/>
                  <a:pt x="5383" y="8161"/>
                </a:cubicBezTo>
                <a:cubicBezTo>
                  <a:pt x="5351" y="8173"/>
                  <a:pt x="5340" y="8209"/>
                  <a:pt x="5333" y="8235"/>
                </a:cubicBezTo>
              </a:path>
              <a:path w="844" h="745">
                <a:moveTo>
                  <a:pt x="6077" y="7913"/>
                </a:moveTo>
                <a:cubicBezTo>
                  <a:pt x="6034" y="7801"/>
                  <a:pt x="6027" y="7759"/>
                  <a:pt x="5904" y="7813"/>
                </a:cubicBezTo>
                <a:cubicBezTo>
                  <a:pt x="5817" y="7851"/>
                  <a:pt x="5794" y="7905"/>
                  <a:pt x="5755" y="7987"/>
                </a:cubicBezTo>
                <a:cubicBezTo>
                  <a:pt x="5723" y="8055"/>
                  <a:pt x="5714" y="8159"/>
                  <a:pt x="5730" y="8235"/>
                </a:cubicBezTo>
                <a:cubicBezTo>
                  <a:pt x="5749" y="8324"/>
                  <a:pt x="5777" y="8378"/>
                  <a:pt x="5804" y="8458"/>
                </a:cubicBezTo>
                <a:cubicBezTo>
                  <a:pt x="5804" y="8466"/>
                  <a:pt x="5804" y="8475"/>
                  <a:pt x="5804" y="8483"/>
                </a:cubicBezTo>
              </a:path>
              <a:path w="844" h="745">
                <a:moveTo>
                  <a:pt x="5606" y="8235"/>
                </a:moveTo>
                <a:cubicBezTo>
                  <a:pt x="5738" y="8235"/>
                  <a:pt x="5871" y="8235"/>
                  <a:pt x="6003" y="82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1"/>
          <p:cNvSpPr/>
          <p:nvPr/>
        </p:nvSpPr>
        <p:spPr>
          <a:xfrm>
            <a:off x="2384280" y="2751120"/>
            <a:ext cx="536760" cy="490680"/>
          </a:xfrm>
          <a:custGeom>
            <a:avLst/>
            <a:gdLst/>
            <a:ahLst/>
            <a:rect l="l" t="t" r="r" b="b"/>
            <a:pathLst>
              <a:path w="1489" h="1365">
                <a:moveTo>
                  <a:pt x="7119" y="7789"/>
                </a:moveTo>
                <a:cubicBezTo>
                  <a:pt x="7114" y="7728"/>
                  <a:pt x="7124" y="7615"/>
                  <a:pt x="7020" y="7640"/>
                </a:cubicBezTo>
                <a:cubicBezTo>
                  <a:pt x="6935" y="7660"/>
                  <a:pt x="6900" y="7675"/>
                  <a:pt x="6846" y="7739"/>
                </a:cubicBezTo>
                <a:cubicBezTo>
                  <a:pt x="6789" y="7807"/>
                  <a:pt x="6796" y="7850"/>
                  <a:pt x="6796" y="7938"/>
                </a:cubicBezTo>
                <a:cubicBezTo>
                  <a:pt x="6796" y="8051"/>
                  <a:pt x="6830" y="8128"/>
                  <a:pt x="6846" y="8235"/>
                </a:cubicBezTo>
                <a:cubicBezTo>
                  <a:pt x="6850" y="8265"/>
                  <a:pt x="6909" y="8411"/>
                  <a:pt x="6896" y="8434"/>
                </a:cubicBezTo>
                <a:cubicBezTo>
                  <a:pt x="6849" y="8434"/>
                  <a:pt x="6829" y="8416"/>
                  <a:pt x="6821" y="8359"/>
                </a:cubicBezTo>
              </a:path>
              <a:path w="1489" h="1365">
                <a:moveTo>
                  <a:pt x="6623" y="8210"/>
                </a:moveTo>
                <a:cubicBezTo>
                  <a:pt x="6730" y="8210"/>
                  <a:pt x="6816" y="8189"/>
                  <a:pt x="6921" y="8186"/>
                </a:cubicBezTo>
                <a:cubicBezTo>
                  <a:pt x="6996" y="8186"/>
                  <a:pt x="7022" y="8186"/>
                  <a:pt x="7069" y="8161"/>
                </a:cubicBezTo>
              </a:path>
              <a:path w="1489" h="1365">
                <a:moveTo>
                  <a:pt x="7466" y="7689"/>
                </a:moveTo>
                <a:cubicBezTo>
                  <a:pt x="7429" y="7800"/>
                  <a:pt x="7379" y="7880"/>
                  <a:pt x="7342" y="7987"/>
                </a:cubicBezTo>
                <a:cubicBezTo>
                  <a:pt x="7307" y="8088"/>
                  <a:pt x="7304" y="8188"/>
                  <a:pt x="7268" y="8285"/>
                </a:cubicBezTo>
                <a:cubicBezTo>
                  <a:pt x="7243" y="8353"/>
                  <a:pt x="7209" y="8436"/>
                  <a:pt x="7193" y="8508"/>
                </a:cubicBezTo>
                <a:cubicBezTo>
                  <a:pt x="7181" y="8563"/>
                  <a:pt x="7138" y="8626"/>
                  <a:pt x="7193" y="8607"/>
                </a:cubicBezTo>
              </a:path>
              <a:path w="1489" h="1365">
                <a:moveTo>
                  <a:pt x="8012" y="8161"/>
                </a:moveTo>
                <a:cubicBezTo>
                  <a:pt x="7938" y="8146"/>
                  <a:pt x="7900" y="8137"/>
                  <a:pt x="7838" y="8186"/>
                </a:cubicBezTo>
                <a:cubicBezTo>
                  <a:pt x="7772" y="8238"/>
                  <a:pt x="7769" y="8275"/>
                  <a:pt x="7739" y="8334"/>
                </a:cubicBezTo>
                <a:cubicBezTo>
                  <a:pt x="7716" y="8379"/>
                  <a:pt x="7688" y="8475"/>
                  <a:pt x="7764" y="8508"/>
                </a:cubicBezTo>
                <a:cubicBezTo>
                  <a:pt x="7816" y="8530"/>
                  <a:pt x="7906" y="8503"/>
                  <a:pt x="7938" y="8458"/>
                </a:cubicBezTo>
                <a:cubicBezTo>
                  <a:pt x="7977" y="8403"/>
                  <a:pt x="7960" y="8338"/>
                  <a:pt x="7987" y="8285"/>
                </a:cubicBezTo>
                <a:cubicBezTo>
                  <a:pt x="7995" y="8277"/>
                  <a:pt x="8004" y="8268"/>
                  <a:pt x="8012" y="8260"/>
                </a:cubicBezTo>
                <a:cubicBezTo>
                  <a:pt x="8012" y="8360"/>
                  <a:pt x="8016" y="8462"/>
                  <a:pt x="8037" y="8558"/>
                </a:cubicBezTo>
                <a:cubicBezTo>
                  <a:pt x="8053" y="8630"/>
                  <a:pt x="8119" y="8735"/>
                  <a:pt x="8111" y="8806"/>
                </a:cubicBezTo>
                <a:cubicBezTo>
                  <a:pt x="8106" y="8854"/>
                  <a:pt x="8082" y="8925"/>
                  <a:pt x="8037" y="8954"/>
                </a:cubicBezTo>
                <a:cubicBezTo>
                  <a:pt x="7976" y="8993"/>
                  <a:pt x="7883" y="9001"/>
                  <a:pt x="7813" y="9004"/>
                </a:cubicBezTo>
                <a:cubicBezTo>
                  <a:pt x="7762" y="9004"/>
                  <a:pt x="7743" y="9003"/>
                  <a:pt x="7714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2"/>
          <p:cNvSpPr/>
          <p:nvPr/>
        </p:nvSpPr>
        <p:spPr>
          <a:xfrm>
            <a:off x="214200" y="3537000"/>
            <a:ext cx="285840" cy="347760"/>
          </a:xfrm>
          <a:custGeom>
            <a:avLst/>
            <a:gdLst/>
            <a:ahLst/>
            <a:rect l="l" t="t" r="r" b="b"/>
            <a:pathLst>
              <a:path w="795" h="968">
                <a:moveTo>
                  <a:pt x="1042" y="9971"/>
                </a:moveTo>
                <a:cubicBezTo>
                  <a:pt x="1049" y="10055"/>
                  <a:pt x="1046" y="10163"/>
                  <a:pt x="1067" y="10244"/>
                </a:cubicBezTo>
                <a:cubicBezTo>
                  <a:pt x="1086" y="10319"/>
                  <a:pt x="1058" y="10381"/>
                  <a:pt x="1067" y="10443"/>
                </a:cubicBezTo>
                <a:cubicBezTo>
                  <a:pt x="1076" y="10504"/>
                  <a:pt x="1105" y="10526"/>
                  <a:pt x="1067" y="10592"/>
                </a:cubicBezTo>
              </a:path>
              <a:path w="795" h="968">
                <a:moveTo>
                  <a:pt x="1191" y="9823"/>
                </a:moveTo>
                <a:cubicBezTo>
                  <a:pt x="1068" y="9823"/>
                  <a:pt x="1004" y="9824"/>
                  <a:pt x="893" y="9872"/>
                </a:cubicBezTo>
                <a:cubicBezTo>
                  <a:pt x="805" y="9910"/>
                  <a:pt x="740" y="9957"/>
                  <a:pt x="695" y="10046"/>
                </a:cubicBezTo>
                <a:cubicBezTo>
                  <a:pt x="648" y="10140"/>
                  <a:pt x="607" y="10211"/>
                  <a:pt x="595" y="10319"/>
                </a:cubicBezTo>
                <a:cubicBezTo>
                  <a:pt x="585" y="10408"/>
                  <a:pt x="600" y="10490"/>
                  <a:pt x="645" y="10567"/>
                </a:cubicBezTo>
                <a:cubicBezTo>
                  <a:pt x="693" y="10649"/>
                  <a:pt x="766" y="10714"/>
                  <a:pt x="843" y="10765"/>
                </a:cubicBezTo>
                <a:cubicBezTo>
                  <a:pt x="897" y="10801"/>
                  <a:pt x="1027" y="10805"/>
                  <a:pt x="1091" y="10790"/>
                </a:cubicBezTo>
                <a:cubicBezTo>
                  <a:pt x="1147" y="10776"/>
                  <a:pt x="1261" y="10717"/>
                  <a:pt x="1290" y="10666"/>
                </a:cubicBezTo>
                <a:cubicBezTo>
                  <a:pt x="1341" y="10575"/>
                  <a:pt x="1385" y="10447"/>
                  <a:pt x="1389" y="10344"/>
                </a:cubicBezTo>
                <a:cubicBezTo>
                  <a:pt x="1392" y="10256"/>
                  <a:pt x="1349" y="10176"/>
                  <a:pt x="1315" y="10096"/>
                </a:cubicBezTo>
                <a:cubicBezTo>
                  <a:pt x="1288" y="10033"/>
                  <a:pt x="1239" y="9995"/>
                  <a:pt x="1191" y="9947"/>
                </a:cubicBezTo>
                <a:cubicBezTo>
                  <a:pt x="1146" y="9902"/>
                  <a:pt x="1139" y="9903"/>
                  <a:pt x="1091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3"/>
          <p:cNvSpPr/>
          <p:nvPr/>
        </p:nvSpPr>
        <p:spPr>
          <a:xfrm>
            <a:off x="677880" y="3490920"/>
            <a:ext cx="1366920" cy="474480"/>
          </a:xfrm>
          <a:custGeom>
            <a:avLst/>
            <a:gdLst/>
            <a:ahLst/>
            <a:rect l="l" t="t" r="r" b="b"/>
            <a:pathLst>
              <a:path w="3796" h="1315">
                <a:moveTo>
                  <a:pt x="2332" y="9971"/>
                </a:moveTo>
                <a:cubicBezTo>
                  <a:pt x="2340" y="9979"/>
                  <a:pt x="2348" y="9988"/>
                  <a:pt x="2356" y="9996"/>
                </a:cubicBezTo>
                <a:cubicBezTo>
                  <a:pt x="2388" y="9944"/>
                  <a:pt x="2376" y="9905"/>
                  <a:pt x="2356" y="9847"/>
                </a:cubicBezTo>
                <a:cubicBezTo>
                  <a:pt x="2338" y="9794"/>
                  <a:pt x="2296" y="9761"/>
                  <a:pt x="2257" y="9723"/>
                </a:cubicBezTo>
                <a:cubicBezTo>
                  <a:pt x="2222" y="9689"/>
                  <a:pt x="2141" y="9679"/>
                  <a:pt x="2108" y="9723"/>
                </a:cubicBezTo>
                <a:cubicBezTo>
                  <a:pt x="2065" y="9779"/>
                  <a:pt x="2044" y="9852"/>
                  <a:pt x="2034" y="9922"/>
                </a:cubicBezTo>
                <a:cubicBezTo>
                  <a:pt x="2015" y="10055"/>
                  <a:pt x="2045" y="10191"/>
                  <a:pt x="2059" y="10319"/>
                </a:cubicBezTo>
                <a:cubicBezTo>
                  <a:pt x="2069" y="10413"/>
                  <a:pt x="2094" y="10502"/>
                  <a:pt x="2108" y="10592"/>
                </a:cubicBezTo>
                <a:cubicBezTo>
                  <a:pt x="2118" y="10660"/>
                  <a:pt x="2125" y="10723"/>
                  <a:pt x="2133" y="10790"/>
                </a:cubicBezTo>
              </a:path>
              <a:path w="3796" h="1315">
                <a:moveTo>
                  <a:pt x="1885" y="10492"/>
                </a:moveTo>
                <a:cubicBezTo>
                  <a:pt x="2013" y="10492"/>
                  <a:pt x="2133" y="10498"/>
                  <a:pt x="2257" y="10468"/>
                </a:cubicBezTo>
              </a:path>
              <a:path w="3796" h="1315">
                <a:moveTo>
                  <a:pt x="2778" y="10145"/>
                </a:moveTo>
                <a:cubicBezTo>
                  <a:pt x="2742" y="10218"/>
                  <a:pt x="2686" y="10272"/>
                  <a:pt x="2654" y="10344"/>
                </a:cubicBezTo>
                <a:cubicBezTo>
                  <a:pt x="2611" y="10441"/>
                  <a:pt x="2604" y="10510"/>
                  <a:pt x="2604" y="10616"/>
                </a:cubicBezTo>
                <a:cubicBezTo>
                  <a:pt x="2604" y="10707"/>
                  <a:pt x="2658" y="10783"/>
                  <a:pt x="2729" y="10840"/>
                </a:cubicBezTo>
                <a:cubicBezTo>
                  <a:pt x="2785" y="10868"/>
                  <a:pt x="2809" y="10873"/>
                  <a:pt x="2853" y="10840"/>
                </a:cubicBezTo>
              </a:path>
              <a:path w="3796" h="1315">
                <a:moveTo>
                  <a:pt x="2952" y="10393"/>
                </a:moveTo>
                <a:cubicBezTo>
                  <a:pt x="2993" y="10475"/>
                  <a:pt x="3041" y="10546"/>
                  <a:pt x="3101" y="10616"/>
                </a:cubicBezTo>
                <a:cubicBezTo>
                  <a:pt x="3167" y="10693"/>
                  <a:pt x="3241" y="10761"/>
                  <a:pt x="3324" y="10815"/>
                </a:cubicBezTo>
                <a:cubicBezTo>
                  <a:pt x="3402" y="10866"/>
                  <a:pt x="3403" y="10880"/>
                  <a:pt x="3473" y="10840"/>
                </a:cubicBezTo>
              </a:path>
              <a:path w="3796" h="1315">
                <a:moveTo>
                  <a:pt x="3249" y="10393"/>
                </a:moveTo>
                <a:cubicBezTo>
                  <a:pt x="3141" y="10494"/>
                  <a:pt x="3079" y="10556"/>
                  <a:pt x="3026" y="10691"/>
                </a:cubicBezTo>
                <a:cubicBezTo>
                  <a:pt x="2996" y="10768"/>
                  <a:pt x="2964" y="10840"/>
                  <a:pt x="2927" y="10914"/>
                </a:cubicBezTo>
              </a:path>
              <a:path w="3796" h="1315">
                <a:moveTo>
                  <a:pt x="3299" y="9897"/>
                </a:moveTo>
                <a:cubicBezTo>
                  <a:pt x="3379" y="10018"/>
                  <a:pt x="3434" y="10128"/>
                  <a:pt x="3473" y="10269"/>
                </a:cubicBezTo>
                <a:cubicBezTo>
                  <a:pt x="3514" y="10418"/>
                  <a:pt x="3502" y="10590"/>
                  <a:pt x="3473" y="10740"/>
                </a:cubicBezTo>
                <a:cubicBezTo>
                  <a:pt x="3462" y="10799"/>
                  <a:pt x="3422" y="10913"/>
                  <a:pt x="3398" y="10964"/>
                </a:cubicBezTo>
                <a:cubicBezTo>
                  <a:pt x="3395" y="10971"/>
                  <a:pt x="3307" y="11057"/>
                  <a:pt x="3373" y="10988"/>
                </a:cubicBezTo>
              </a:path>
              <a:path w="3796" h="1315">
                <a:moveTo>
                  <a:pt x="3770" y="10492"/>
                </a:moveTo>
                <a:cubicBezTo>
                  <a:pt x="3861" y="10492"/>
                  <a:pt x="3952" y="10492"/>
                  <a:pt x="4043" y="10492"/>
                </a:cubicBezTo>
              </a:path>
              <a:path w="3796" h="1315">
                <a:moveTo>
                  <a:pt x="3646" y="10716"/>
                </a:moveTo>
                <a:cubicBezTo>
                  <a:pt x="3762" y="10735"/>
                  <a:pt x="3857" y="10759"/>
                  <a:pt x="3969" y="10716"/>
                </a:cubicBezTo>
                <a:cubicBezTo>
                  <a:pt x="3985" y="10708"/>
                  <a:pt x="4002" y="10699"/>
                  <a:pt x="4018" y="10691"/>
                </a:cubicBezTo>
              </a:path>
              <a:path w="3796" h="1315">
                <a:moveTo>
                  <a:pt x="4242" y="10344"/>
                </a:moveTo>
                <a:cubicBezTo>
                  <a:pt x="4271" y="10426"/>
                  <a:pt x="4295" y="10544"/>
                  <a:pt x="4341" y="10616"/>
                </a:cubicBezTo>
                <a:cubicBezTo>
                  <a:pt x="4399" y="10707"/>
                  <a:pt x="4487" y="10788"/>
                  <a:pt x="4564" y="10864"/>
                </a:cubicBezTo>
                <a:cubicBezTo>
                  <a:pt x="4640" y="10940"/>
                  <a:pt x="4656" y="10964"/>
                  <a:pt x="4762" y="10964"/>
                </a:cubicBezTo>
              </a:path>
              <a:path w="3796" h="1315">
                <a:moveTo>
                  <a:pt x="4514" y="10393"/>
                </a:moveTo>
                <a:cubicBezTo>
                  <a:pt x="4462" y="10491"/>
                  <a:pt x="4324" y="10691"/>
                  <a:pt x="4291" y="10815"/>
                </a:cubicBezTo>
                <a:cubicBezTo>
                  <a:pt x="4275" y="10875"/>
                  <a:pt x="4234" y="10958"/>
                  <a:pt x="4291" y="10939"/>
                </a:cubicBezTo>
              </a:path>
              <a:path w="3796" h="1315">
                <a:moveTo>
                  <a:pt x="4986" y="10269"/>
                </a:moveTo>
                <a:cubicBezTo>
                  <a:pt x="4986" y="10453"/>
                  <a:pt x="4960" y="10674"/>
                  <a:pt x="5011" y="10840"/>
                </a:cubicBezTo>
                <a:cubicBezTo>
                  <a:pt x="5011" y="10848"/>
                  <a:pt x="5011" y="10856"/>
                  <a:pt x="5011" y="10864"/>
                </a:cubicBezTo>
              </a:path>
              <a:path w="3796" h="1315">
                <a:moveTo>
                  <a:pt x="4738" y="10567"/>
                </a:moveTo>
                <a:cubicBezTo>
                  <a:pt x="4843" y="10544"/>
                  <a:pt x="4928" y="10542"/>
                  <a:pt x="5035" y="10542"/>
                </a:cubicBezTo>
                <a:cubicBezTo>
                  <a:pt x="5141" y="10542"/>
                  <a:pt x="5208" y="10507"/>
                  <a:pt x="5308" y="10468"/>
                </a:cubicBezTo>
              </a:path>
              <a:path w="3796" h="1315">
                <a:moveTo>
                  <a:pt x="5680" y="10021"/>
                </a:moveTo>
                <a:cubicBezTo>
                  <a:pt x="5650" y="10102"/>
                  <a:pt x="5635" y="10181"/>
                  <a:pt x="5631" y="10269"/>
                </a:cubicBezTo>
                <a:cubicBezTo>
                  <a:pt x="5627" y="10366"/>
                  <a:pt x="5645" y="10449"/>
                  <a:pt x="5655" y="10542"/>
                </a:cubicBezTo>
                <a:cubicBezTo>
                  <a:pt x="5664" y="10624"/>
                  <a:pt x="5677" y="10709"/>
                  <a:pt x="5680" y="10790"/>
                </a:cubicBezTo>
                <a:cubicBezTo>
                  <a:pt x="5680" y="10815"/>
                  <a:pt x="5680" y="10839"/>
                  <a:pt x="5680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4"/>
          <p:cNvSpPr/>
          <p:nvPr/>
        </p:nvSpPr>
        <p:spPr>
          <a:xfrm>
            <a:off x="2394000" y="3571920"/>
            <a:ext cx="1258920" cy="588960"/>
          </a:xfrm>
          <a:custGeom>
            <a:avLst/>
            <a:gdLst/>
            <a:ahLst/>
            <a:rect l="l" t="t" r="r" b="b"/>
            <a:pathLst>
              <a:path w="3498" h="1638">
                <a:moveTo>
                  <a:pt x="7069" y="10666"/>
                </a:moveTo>
                <a:cubicBezTo>
                  <a:pt x="7120" y="10692"/>
                  <a:pt x="7069" y="10590"/>
                  <a:pt x="7045" y="10542"/>
                </a:cubicBezTo>
                <a:cubicBezTo>
                  <a:pt x="7010" y="10472"/>
                  <a:pt x="6969" y="10387"/>
                  <a:pt x="6871" y="10393"/>
                </a:cubicBezTo>
                <a:cubicBezTo>
                  <a:pt x="6836" y="10395"/>
                  <a:pt x="6756" y="10443"/>
                  <a:pt x="6722" y="10468"/>
                </a:cubicBezTo>
                <a:cubicBezTo>
                  <a:pt x="6641" y="10528"/>
                  <a:pt x="6630" y="10632"/>
                  <a:pt x="6672" y="10716"/>
                </a:cubicBezTo>
                <a:cubicBezTo>
                  <a:pt x="6713" y="10799"/>
                  <a:pt x="6756" y="10812"/>
                  <a:pt x="6846" y="10815"/>
                </a:cubicBezTo>
                <a:cubicBezTo>
                  <a:pt x="6926" y="10818"/>
                  <a:pt x="6972" y="10784"/>
                  <a:pt x="7020" y="10716"/>
                </a:cubicBezTo>
                <a:cubicBezTo>
                  <a:pt x="7047" y="10678"/>
                  <a:pt x="7070" y="10633"/>
                  <a:pt x="7094" y="10592"/>
                </a:cubicBezTo>
                <a:cubicBezTo>
                  <a:pt x="7083" y="10664"/>
                  <a:pt x="7069" y="10708"/>
                  <a:pt x="7069" y="10790"/>
                </a:cubicBezTo>
                <a:cubicBezTo>
                  <a:pt x="7069" y="10882"/>
                  <a:pt x="7077" y="10974"/>
                  <a:pt x="7094" y="11063"/>
                </a:cubicBezTo>
                <a:cubicBezTo>
                  <a:pt x="7114" y="11171"/>
                  <a:pt x="7140" y="11276"/>
                  <a:pt x="7144" y="11385"/>
                </a:cubicBezTo>
                <a:cubicBezTo>
                  <a:pt x="7146" y="11430"/>
                  <a:pt x="7127" y="11538"/>
                  <a:pt x="7069" y="11559"/>
                </a:cubicBezTo>
                <a:cubicBezTo>
                  <a:pt x="6999" y="11584"/>
                  <a:pt x="6870" y="11506"/>
                  <a:pt x="6821" y="11460"/>
                </a:cubicBezTo>
                <a:cubicBezTo>
                  <a:pt x="6762" y="11404"/>
                  <a:pt x="6757" y="11407"/>
                  <a:pt x="6747" y="11336"/>
                </a:cubicBezTo>
              </a:path>
              <a:path w="3498" h="1638">
                <a:moveTo>
                  <a:pt x="7541" y="9971"/>
                </a:moveTo>
                <a:cubicBezTo>
                  <a:pt x="7500" y="10070"/>
                  <a:pt x="7454" y="10169"/>
                  <a:pt x="7417" y="10269"/>
                </a:cubicBezTo>
                <a:cubicBezTo>
                  <a:pt x="7380" y="10369"/>
                  <a:pt x="7323" y="10460"/>
                  <a:pt x="7317" y="10567"/>
                </a:cubicBezTo>
                <a:cubicBezTo>
                  <a:pt x="7313" y="10649"/>
                  <a:pt x="7330" y="10692"/>
                  <a:pt x="7367" y="10765"/>
                </a:cubicBezTo>
                <a:cubicBezTo>
                  <a:pt x="7400" y="10831"/>
                  <a:pt x="7446" y="10851"/>
                  <a:pt x="7516" y="10864"/>
                </a:cubicBezTo>
              </a:path>
              <a:path w="3498" h="1638">
                <a:moveTo>
                  <a:pt x="7541" y="10319"/>
                </a:moveTo>
                <a:cubicBezTo>
                  <a:pt x="7583" y="10437"/>
                  <a:pt x="7636" y="10511"/>
                  <a:pt x="7739" y="10592"/>
                </a:cubicBezTo>
                <a:cubicBezTo>
                  <a:pt x="7810" y="10648"/>
                  <a:pt x="7848" y="10666"/>
                  <a:pt x="7938" y="10666"/>
                </a:cubicBezTo>
                <a:cubicBezTo>
                  <a:pt x="7946" y="10666"/>
                  <a:pt x="7954" y="10666"/>
                  <a:pt x="7962" y="10666"/>
                </a:cubicBezTo>
              </a:path>
              <a:path w="3498" h="1638">
                <a:moveTo>
                  <a:pt x="8012" y="10244"/>
                </a:moveTo>
                <a:cubicBezTo>
                  <a:pt x="7909" y="10254"/>
                  <a:pt x="7904" y="10269"/>
                  <a:pt x="7838" y="10344"/>
                </a:cubicBezTo>
                <a:cubicBezTo>
                  <a:pt x="7768" y="10424"/>
                  <a:pt x="7748" y="10515"/>
                  <a:pt x="7714" y="10616"/>
                </a:cubicBezTo>
                <a:cubicBezTo>
                  <a:pt x="7687" y="10696"/>
                  <a:pt x="7677" y="10781"/>
                  <a:pt x="7665" y="10864"/>
                </a:cubicBezTo>
              </a:path>
              <a:path w="3498" h="1638">
                <a:moveTo>
                  <a:pt x="8012" y="9922"/>
                </a:moveTo>
                <a:cubicBezTo>
                  <a:pt x="8088" y="10089"/>
                  <a:pt x="8211" y="10282"/>
                  <a:pt x="8235" y="10468"/>
                </a:cubicBezTo>
                <a:cubicBezTo>
                  <a:pt x="8251" y="10596"/>
                  <a:pt x="8265" y="10738"/>
                  <a:pt x="8235" y="10864"/>
                </a:cubicBezTo>
                <a:cubicBezTo>
                  <a:pt x="8227" y="10896"/>
                  <a:pt x="8124" y="11034"/>
                  <a:pt x="8086" y="11038"/>
                </a:cubicBezTo>
                <a:cubicBezTo>
                  <a:pt x="8043" y="11016"/>
                  <a:pt x="8031" y="11012"/>
                  <a:pt x="8012" y="10988"/>
                </a:cubicBezTo>
              </a:path>
              <a:path w="3498" h="1638">
                <a:moveTo>
                  <a:pt x="8483" y="10319"/>
                </a:moveTo>
                <a:cubicBezTo>
                  <a:pt x="8673" y="10269"/>
                  <a:pt x="8643" y="10274"/>
                  <a:pt x="8781" y="10294"/>
                </a:cubicBezTo>
              </a:path>
              <a:path w="3498" h="1638">
                <a:moveTo>
                  <a:pt x="8458" y="10542"/>
                </a:moveTo>
                <a:cubicBezTo>
                  <a:pt x="8528" y="10586"/>
                  <a:pt x="8593" y="10640"/>
                  <a:pt x="8682" y="10616"/>
                </a:cubicBezTo>
                <a:cubicBezTo>
                  <a:pt x="8738" y="10588"/>
                  <a:pt x="8762" y="10578"/>
                  <a:pt x="8806" y="10567"/>
                </a:cubicBezTo>
              </a:path>
              <a:path w="3498" h="1638">
                <a:moveTo>
                  <a:pt x="8954" y="10294"/>
                </a:moveTo>
                <a:cubicBezTo>
                  <a:pt x="9051" y="10416"/>
                  <a:pt x="9143" y="10529"/>
                  <a:pt x="9252" y="10641"/>
                </a:cubicBezTo>
                <a:cubicBezTo>
                  <a:pt x="9349" y="10740"/>
                  <a:pt x="9371" y="10762"/>
                  <a:pt x="9475" y="10815"/>
                </a:cubicBezTo>
              </a:path>
              <a:path w="3498" h="1638">
                <a:moveTo>
                  <a:pt x="9351" y="10244"/>
                </a:moveTo>
                <a:cubicBezTo>
                  <a:pt x="9218" y="10405"/>
                  <a:pt x="9188" y="10475"/>
                  <a:pt x="9103" y="10641"/>
                </a:cubicBezTo>
                <a:cubicBezTo>
                  <a:pt x="9062" y="10720"/>
                  <a:pt x="9006" y="10803"/>
                  <a:pt x="8979" y="10889"/>
                </a:cubicBezTo>
                <a:cubicBezTo>
                  <a:pt x="8979" y="10897"/>
                  <a:pt x="8979" y="10906"/>
                  <a:pt x="8979" y="10914"/>
                </a:cubicBezTo>
              </a:path>
              <a:path w="3498" h="1638">
                <a:moveTo>
                  <a:pt x="9624" y="10567"/>
                </a:moveTo>
                <a:cubicBezTo>
                  <a:pt x="9690" y="10550"/>
                  <a:pt x="9757" y="10534"/>
                  <a:pt x="9823" y="10517"/>
                </a:cubicBezTo>
              </a:path>
              <a:path w="3498" h="1638">
                <a:moveTo>
                  <a:pt x="10071" y="9971"/>
                </a:moveTo>
                <a:cubicBezTo>
                  <a:pt x="10071" y="10165"/>
                  <a:pt x="10071" y="10352"/>
                  <a:pt x="10096" y="10542"/>
                </a:cubicBezTo>
                <a:cubicBezTo>
                  <a:pt x="10117" y="10702"/>
                  <a:pt x="10145" y="10853"/>
                  <a:pt x="10145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5"/>
          <p:cNvSpPr/>
          <p:nvPr/>
        </p:nvSpPr>
        <p:spPr>
          <a:xfrm>
            <a:off x="160200" y="4276800"/>
            <a:ext cx="304920" cy="376200"/>
          </a:xfrm>
          <a:custGeom>
            <a:avLst/>
            <a:gdLst/>
            <a:ahLst/>
            <a:rect l="l" t="t" r="r" b="b"/>
            <a:pathLst>
              <a:path w="845" h="1043">
                <a:moveTo>
                  <a:pt x="769" y="12204"/>
                </a:moveTo>
                <a:cubicBezTo>
                  <a:pt x="835" y="12164"/>
                  <a:pt x="856" y="12191"/>
                  <a:pt x="918" y="12204"/>
                </a:cubicBezTo>
                <a:cubicBezTo>
                  <a:pt x="992" y="12219"/>
                  <a:pt x="976" y="12207"/>
                  <a:pt x="1017" y="12278"/>
                </a:cubicBezTo>
                <a:cubicBezTo>
                  <a:pt x="952" y="12344"/>
                  <a:pt x="915" y="12374"/>
                  <a:pt x="819" y="12378"/>
                </a:cubicBezTo>
                <a:cubicBezTo>
                  <a:pt x="794" y="12378"/>
                  <a:pt x="769" y="12378"/>
                  <a:pt x="744" y="12378"/>
                </a:cubicBezTo>
                <a:cubicBezTo>
                  <a:pt x="792" y="12415"/>
                  <a:pt x="840" y="12449"/>
                  <a:pt x="893" y="12477"/>
                </a:cubicBezTo>
                <a:cubicBezTo>
                  <a:pt x="947" y="12506"/>
                  <a:pt x="1023" y="12538"/>
                  <a:pt x="1042" y="12601"/>
                </a:cubicBezTo>
                <a:cubicBezTo>
                  <a:pt x="1059" y="12657"/>
                  <a:pt x="993" y="12713"/>
                  <a:pt x="943" y="12725"/>
                </a:cubicBezTo>
                <a:cubicBezTo>
                  <a:pt x="878" y="12740"/>
                  <a:pt x="820" y="12715"/>
                  <a:pt x="769" y="12700"/>
                </a:cubicBezTo>
                <a:cubicBezTo>
                  <a:pt x="714" y="12683"/>
                  <a:pt x="728" y="12687"/>
                  <a:pt x="719" y="12626"/>
                </a:cubicBezTo>
              </a:path>
              <a:path w="845" h="1043">
                <a:moveTo>
                  <a:pt x="1042" y="12030"/>
                </a:moveTo>
                <a:cubicBezTo>
                  <a:pt x="932" y="11913"/>
                  <a:pt x="903" y="11845"/>
                  <a:pt x="744" y="11906"/>
                </a:cubicBezTo>
                <a:cubicBezTo>
                  <a:pt x="639" y="11947"/>
                  <a:pt x="580" y="11979"/>
                  <a:pt x="521" y="12080"/>
                </a:cubicBezTo>
                <a:cubicBezTo>
                  <a:pt x="457" y="12189"/>
                  <a:pt x="427" y="12300"/>
                  <a:pt x="446" y="12427"/>
                </a:cubicBezTo>
                <a:cubicBezTo>
                  <a:pt x="463" y="12540"/>
                  <a:pt x="546" y="12663"/>
                  <a:pt x="620" y="12750"/>
                </a:cubicBezTo>
                <a:cubicBezTo>
                  <a:pt x="718" y="12864"/>
                  <a:pt x="787" y="12869"/>
                  <a:pt x="918" y="12898"/>
                </a:cubicBezTo>
                <a:cubicBezTo>
                  <a:pt x="1048" y="12927"/>
                  <a:pt x="1075" y="12890"/>
                  <a:pt x="1166" y="12799"/>
                </a:cubicBezTo>
                <a:cubicBezTo>
                  <a:pt x="1245" y="12720"/>
                  <a:pt x="1275" y="12564"/>
                  <a:pt x="1290" y="12452"/>
                </a:cubicBezTo>
                <a:cubicBezTo>
                  <a:pt x="1304" y="12343"/>
                  <a:pt x="1286" y="12251"/>
                  <a:pt x="1240" y="12154"/>
                </a:cubicBezTo>
                <a:cubicBezTo>
                  <a:pt x="1203" y="12078"/>
                  <a:pt x="1176" y="12058"/>
                  <a:pt x="1116" y="12005"/>
                </a:cubicBezTo>
                <a:cubicBezTo>
                  <a:pt x="1053" y="11949"/>
                  <a:pt x="1076" y="11953"/>
                  <a:pt x="1067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16"/>
          <p:cNvSpPr/>
          <p:nvPr/>
        </p:nvSpPr>
        <p:spPr>
          <a:xfrm>
            <a:off x="633240" y="4232160"/>
            <a:ext cx="992520" cy="474840"/>
          </a:xfrm>
          <a:custGeom>
            <a:avLst/>
            <a:gdLst/>
            <a:ahLst/>
            <a:rect l="l" t="t" r="r" b="b"/>
            <a:pathLst>
              <a:path w="2754" h="1316">
                <a:moveTo>
                  <a:pt x="2232" y="12204"/>
                </a:moveTo>
                <a:cubicBezTo>
                  <a:pt x="2224" y="12144"/>
                  <a:pt x="2197" y="12107"/>
                  <a:pt x="2158" y="12055"/>
                </a:cubicBezTo>
                <a:cubicBezTo>
                  <a:pt x="2116" y="11999"/>
                  <a:pt x="2062" y="11971"/>
                  <a:pt x="2009" y="11931"/>
                </a:cubicBezTo>
                <a:cubicBezTo>
                  <a:pt x="1951" y="11887"/>
                  <a:pt x="1906" y="11855"/>
                  <a:pt x="1836" y="11906"/>
                </a:cubicBezTo>
                <a:cubicBezTo>
                  <a:pt x="1766" y="11957"/>
                  <a:pt x="1768" y="12098"/>
                  <a:pt x="1786" y="12179"/>
                </a:cubicBezTo>
                <a:cubicBezTo>
                  <a:pt x="1808" y="12275"/>
                  <a:pt x="1815" y="12379"/>
                  <a:pt x="1836" y="12477"/>
                </a:cubicBezTo>
                <a:cubicBezTo>
                  <a:pt x="1856" y="12567"/>
                  <a:pt x="1871" y="12662"/>
                  <a:pt x="1885" y="12750"/>
                </a:cubicBezTo>
                <a:cubicBezTo>
                  <a:pt x="1891" y="12789"/>
                  <a:pt x="1885" y="12834"/>
                  <a:pt x="1885" y="12874"/>
                </a:cubicBezTo>
              </a:path>
              <a:path w="2754" h="1316">
                <a:moveTo>
                  <a:pt x="1761" y="12576"/>
                </a:moveTo>
                <a:cubicBezTo>
                  <a:pt x="1874" y="12576"/>
                  <a:pt x="1974" y="12578"/>
                  <a:pt x="2084" y="12551"/>
                </a:cubicBezTo>
              </a:path>
              <a:path w="2754" h="1316">
                <a:moveTo>
                  <a:pt x="2480" y="12129"/>
                </a:moveTo>
                <a:cubicBezTo>
                  <a:pt x="2455" y="12256"/>
                  <a:pt x="2431" y="12349"/>
                  <a:pt x="2431" y="12477"/>
                </a:cubicBezTo>
                <a:cubicBezTo>
                  <a:pt x="2431" y="12571"/>
                  <a:pt x="2457" y="12668"/>
                  <a:pt x="2505" y="12750"/>
                </a:cubicBezTo>
                <a:cubicBezTo>
                  <a:pt x="2537" y="12805"/>
                  <a:pt x="2570" y="12859"/>
                  <a:pt x="2629" y="12874"/>
                </a:cubicBezTo>
              </a:path>
              <a:path w="2754" h="1316">
                <a:moveTo>
                  <a:pt x="2629" y="12402"/>
                </a:moveTo>
                <a:cubicBezTo>
                  <a:pt x="2674" y="12475"/>
                  <a:pt x="2723" y="12559"/>
                  <a:pt x="2778" y="12626"/>
                </a:cubicBezTo>
                <a:cubicBezTo>
                  <a:pt x="2831" y="12691"/>
                  <a:pt x="2907" y="12755"/>
                  <a:pt x="2977" y="12799"/>
                </a:cubicBezTo>
                <a:cubicBezTo>
                  <a:pt x="3026" y="12824"/>
                  <a:pt x="3043" y="12832"/>
                  <a:pt x="3076" y="12799"/>
                </a:cubicBezTo>
              </a:path>
              <a:path w="2754" h="1316">
                <a:moveTo>
                  <a:pt x="2927" y="12353"/>
                </a:moveTo>
                <a:cubicBezTo>
                  <a:pt x="2833" y="12421"/>
                  <a:pt x="2787" y="12475"/>
                  <a:pt x="2729" y="12576"/>
                </a:cubicBezTo>
                <a:cubicBezTo>
                  <a:pt x="2684" y="12656"/>
                  <a:pt x="2680" y="12742"/>
                  <a:pt x="2654" y="12824"/>
                </a:cubicBezTo>
                <a:cubicBezTo>
                  <a:pt x="2638" y="12875"/>
                  <a:pt x="2629" y="12894"/>
                  <a:pt x="2629" y="12948"/>
                </a:cubicBezTo>
              </a:path>
              <a:path w="2754" h="1316">
                <a:moveTo>
                  <a:pt x="2927" y="11956"/>
                </a:moveTo>
                <a:cubicBezTo>
                  <a:pt x="2999" y="12087"/>
                  <a:pt x="3061" y="12208"/>
                  <a:pt x="3101" y="12353"/>
                </a:cubicBezTo>
                <a:cubicBezTo>
                  <a:pt x="3136" y="12480"/>
                  <a:pt x="3172" y="12617"/>
                  <a:pt x="3150" y="12750"/>
                </a:cubicBezTo>
                <a:cubicBezTo>
                  <a:pt x="3138" y="12825"/>
                  <a:pt x="3100" y="12943"/>
                  <a:pt x="3051" y="12998"/>
                </a:cubicBezTo>
                <a:cubicBezTo>
                  <a:pt x="2988" y="13069"/>
                  <a:pt x="2966" y="13096"/>
                  <a:pt x="2952" y="12998"/>
                </a:cubicBezTo>
              </a:path>
              <a:path w="2754" h="1316">
                <a:moveTo>
                  <a:pt x="3349" y="12477"/>
                </a:moveTo>
                <a:cubicBezTo>
                  <a:pt x="3472" y="12477"/>
                  <a:pt x="3521" y="12488"/>
                  <a:pt x="3621" y="12502"/>
                </a:cubicBezTo>
              </a:path>
              <a:path w="2754" h="1316">
                <a:moveTo>
                  <a:pt x="3324" y="12700"/>
                </a:moveTo>
                <a:cubicBezTo>
                  <a:pt x="3468" y="12762"/>
                  <a:pt x="3477" y="12763"/>
                  <a:pt x="3621" y="12700"/>
                </a:cubicBezTo>
              </a:path>
              <a:path w="2754" h="1316">
                <a:moveTo>
                  <a:pt x="3770" y="12303"/>
                </a:moveTo>
                <a:cubicBezTo>
                  <a:pt x="3790" y="12414"/>
                  <a:pt x="3795" y="12512"/>
                  <a:pt x="3870" y="12601"/>
                </a:cubicBezTo>
                <a:cubicBezTo>
                  <a:pt x="3946" y="12692"/>
                  <a:pt x="4024" y="12800"/>
                  <a:pt x="4118" y="12874"/>
                </a:cubicBezTo>
                <a:cubicBezTo>
                  <a:pt x="4167" y="12912"/>
                  <a:pt x="4219" y="12935"/>
                  <a:pt x="4266" y="12973"/>
                </a:cubicBezTo>
              </a:path>
              <a:path w="2754" h="1316">
                <a:moveTo>
                  <a:pt x="4043" y="12378"/>
                </a:moveTo>
                <a:cubicBezTo>
                  <a:pt x="3996" y="12480"/>
                  <a:pt x="3953" y="12579"/>
                  <a:pt x="3894" y="12675"/>
                </a:cubicBezTo>
                <a:cubicBezTo>
                  <a:pt x="3846" y="12753"/>
                  <a:pt x="3789" y="12857"/>
                  <a:pt x="3770" y="12948"/>
                </a:cubicBezTo>
                <a:cubicBezTo>
                  <a:pt x="3770" y="12998"/>
                  <a:pt x="3770" y="13014"/>
                  <a:pt x="3770" y="13047"/>
                </a:cubicBezTo>
              </a:path>
              <a:path w="2754" h="1316">
                <a:moveTo>
                  <a:pt x="4018" y="11857"/>
                </a:moveTo>
                <a:cubicBezTo>
                  <a:pt x="4065" y="11805"/>
                  <a:pt x="4156" y="11678"/>
                  <a:pt x="4242" y="11782"/>
                </a:cubicBezTo>
                <a:cubicBezTo>
                  <a:pt x="4263" y="11808"/>
                  <a:pt x="4335" y="11895"/>
                  <a:pt x="4316" y="11931"/>
                </a:cubicBezTo>
                <a:cubicBezTo>
                  <a:pt x="4292" y="11976"/>
                  <a:pt x="4231" y="12031"/>
                  <a:pt x="4217" y="12080"/>
                </a:cubicBezTo>
                <a:cubicBezTo>
                  <a:pt x="4195" y="12157"/>
                  <a:pt x="4185" y="12187"/>
                  <a:pt x="4291" y="12204"/>
                </a:cubicBezTo>
                <a:cubicBezTo>
                  <a:pt x="4323" y="12209"/>
                  <a:pt x="4508" y="12223"/>
                  <a:pt x="4514" y="12179"/>
                </a:cubicBezTo>
                <a:cubicBezTo>
                  <a:pt x="4506" y="12171"/>
                  <a:pt x="4498" y="12162"/>
                  <a:pt x="4490" y="121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17"/>
          <p:cNvSpPr/>
          <p:nvPr/>
        </p:nvSpPr>
        <p:spPr>
          <a:xfrm>
            <a:off x="1830240" y="4357800"/>
            <a:ext cx="1357560" cy="642960"/>
          </a:xfrm>
          <a:custGeom>
            <a:avLst/>
            <a:gdLst/>
            <a:ahLst/>
            <a:rect l="l" t="t" r="r" b="b"/>
            <a:pathLst>
              <a:path w="3771" h="1787">
                <a:moveTo>
                  <a:pt x="5531" y="12750"/>
                </a:moveTo>
                <a:cubicBezTo>
                  <a:pt x="5562" y="12688"/>
                  <a:pt x="5602" y="12624"/>
                  <a:pt x="5581" y="12551"/>
                </a:cubicBezTo>
                <a:cubicBezTo>
                  <a:pt x="5560" y="12478"/>
                  <a:pt x="5505" y="12440"/>
                  <a:pt x="5432" y="12452"/>
                </a:cubicBezTo>
                <a:cubicBezTo>
                  <a:pt x="5338" y="12467"/>
                  <a:pt x="5284" y="12526"/>
                  <a:pt x="5234" y="12601"/>
                </a:cubicBezTo>
                <a:cubicBezTo>
                  <a:pt x="5188" y="12670"/>
                  <a:pt x="5204" y="12754"/>
                  <a:pt x="5234" y="12824"/>
                </a:cubicBezTo>
                <a:cubicBezTo>
                  <a:pt x="5256" y="12875"/>
                  <a:pt x="5286" y="12965"/>
                  <a:pt x="5333" y="12998"/>
                </a:cubicBezTo>
                <a:cubicBezTo>
                  <a:pt x="5402" y="13047"/>
                  <a:pt x="5436" y="13056"/>
                  <a:pt x="5507" y="12998"/>
                </a:cubicBezTo>
                <a:cubicBezTo>
                  <a:pt x="5552" y="12961"/>
                  <a:pt x="5572" y="12904"/>
                  <a:pt x="5581" y="12849"/>
                </a:cubicBezTo>
                <a:cubicBezTo>
                  <a:pt x="5581" y="12832"/>
                  <a:pt x="5581" y="12816"/>
                  <a:pt x="5581" y="12799"/>
                </a:cubicBezTo>
                <a:cubicBezTo>
                  <a:pt x="5607" y="12902"/>
                  <a:pt x="5620" y="13016"/>
                  <a:pt x="5631" y="13122"/>
                </a:cubicBezTo>
                <a:cubicBezTo>
                  <a:pt x="5645" y="13257"/>
                  <a:pt x="5638" y="13389"/>
                  <a:pt x="5631" y="13519"/>
                </a:cubicBezTo>
                <a:cubicBezTo>
                  <a:pt x="5626" y="13608"/>
                  <a:pt x="5655" y="13743"/>
                  <a:pt x="5581" y="13816"/>
                </a:cubicBezTo>
                <a:cubicBezTo>
                  <a:pt x="5535" y="13862"/>
                  <a:pt x="5449" y="13904"/>
                  <a:pt x="5383" y="13891"/>
                </a:cubicBezTo>
                <a:cubicBezTo>
                  <a:pt x="5317" y="13878"/>
                  <a:pt x="5230" y="13842"/>
                  <a:pt x="5184" y="13791"/>
                </a:cubicBezTo>
                <a:cubicBezTo>
                  <a:pt x="5106" y="13705"/>
                  <a:pt x="5072" y="13557"/>
                  <a:pt x="5085" y="13444"/>
                </a:cubicBezTo>
                <a:cubicBezTo>
                  <a:pt x="5093" y="13411"/>
                  <a:pt x="5102" y="13378"/>
                  <a:pt x="5110" y="13345"/>
                </a:cubicBezTo>
              </a:path>
              <a:path w="3771" h="1787">
                <a:moveTo>
                  <a:pt x="5779" y="12105"/>
                </a:moveTo>
                <a:cubicBezTo>
                  <a:pt x="5758" y="12240"/>
                  <a:pt x="5737" y="12388"/>
                  <a:pt x="5755" y="12526"/>
                </a:cubicBezTo>
                <a:cubicBezTo>
                  <a:pt x="5774" y="12664"/>
                  <a:pt x="5846" y="12823"/>
                  <a:pt x="5904" y="12948"/>
                </a:cubicBezTo>
                <a:cubicBezTo>
                  <a:pt x="5944" y="13035"/>
                  <a:pt x="5993" y="13121"/>
                  <a:pt x="6052" y="13196"/>
                </a:cubicBezTo>
              </a:path>
              <a:path w="3771" h="1787">
                <a:moveTo>
                  <a:pt x="6028" y="12650"/>
                </a:moveTo>
                <a:cubicBezTo>
                  <a:pt x="6095" y="12719"/>
                  <a:pt x="6157" y="12811"/>
                  <a:pt x="6226" y="12874"/>
                </a:cubicBezTo>
                <a:cubicBezTo>
                  <a:pt x="6277" y="12921"/>
                  <a:pt x="6365" y="12998"/>
                  <a:pt x="6424" y="13022"/>
                </a:cubicBezTo>
              </a:path>
              <a:path w="3771" h="1787">
                <a:moveTo>
                  <a:pt x="6325" y="12551"/>
                </a:moveTo>
                <a:cubicBezTo>
                  <a:pt x="6258" y="12618"/>
                  <a:pt x="6193" y="12692"/>
                  <a:pt x="6152" y="12774"/>
                </a:cubicBezTo>
                <a:cubicBezTo>
                  <a:pt x="6106" y="12866"/>
                  <a:pt x="6046" y="12968"/>
                  <a:pt x="6028" y="13072"/>
                </a:cubicBezTo>
                <a:cubicBezTo>
                  <a:pt x="6018" y="13130"/>
                  <a:pt x="6033" y="13147"/>
                  <a:pt x="6003" y="13196"/>
                </a:cubicBezTo>
              </a:path>
              <a:path w="3771" h="1787">
                <a:moveTo>
                  <a:pt x="6350" y="12154"/>
                </a:moveTo>
                <a:cubicBezTo>
                  <a:pt x="6448" y="12373"/>
                  <a:pt x="6520" y="12546"/>
                  <a:pt x="6573" y="12774"/>
                </a:cubicBezTo>
                <a:cubicBezTo>
                  <a:pt x="6609" y="12929"/>
                  <a:pt x="6583" y="13075"/>
                  <a:pt x="6524" y="13221"/>
                </a:cubicBezTo>
                <a:cubicBezTo>
                  <a:pt x="6505" y="13267"/>
                  <a:pt x="6483" y="13287"/>
                  <a:pt x="6449" y="13320"/>
                </a:cubicBezTo>
              </a:path>
              <a:path w="3771" h="1787">
                <a:moveTo>
                  <a:pt x="6821" y="12675"/>
                </a:moveTo>
                <a:cubicBezTo>
                  <a:pt x="6878" y="12675"/>
                  <a:pt x="7086" y="12717"/>
                  <a:pt x="7144" y="12700"/>
                </a:cubicBezTo>
                <a:cubicBezTo>
                  <a:pt x="7166" y="12678"/>
                  <a:pt x="7171" y="12669"/>
                  <a:pt x="7193" y="12675"/>
                </a:cubicBezTo>
              </a:path>
              <a:path w="3771" h="1787">
                <a:moveTo>
                  <a:pt x="6796" y="12849"/>
                </a:moveTo>
                <a:cubicBezTo>
                  <a:pt x="6877" y="12906"/>
                  <a:pt x="6961" y="12990"/>
                  <a:pt x="7069" y="12973"/>
                </a:cubicBezTo>
                <a:cubicBezTo>
                  <a:pt x="7094" y="12965"/>
                  <a:pt x="7119" y="12956"/>
                  <a:pt x="7144" y="12948"/>
                </a:cubicBezTo>
              </a:path>
              <a:path w="3771" h="1787">
                <a:moveTo>
                  <a:pt x="7342" y="12154"/>
                </a:moveTo>
                <a:cubicBezTo>
                  <a:pt x="7310" y="12250"/>
                  <a:pt x="7296" y="12348"/>
                  <a:pt x="7293" y="12452"/>
                </a:cubicBezTo>
                <a:cubicBezTo>
                  <a:pt x="7289" y="12592"/>
                  <a:pt x="7286" y="12763"/>
                  <a:pt x="7317" y="12898"/>
                </a:cubicBezTo>
                <a:cubicBezTo>
                  <a:pt x="7347" y="13027"/>
                  <a:pt x="7389" y="13151"/>
                  <a:pt x="7441" y="13271"/>
                </a:cubicBezTo>
              </a:path>
              <a:path w="3771" h="1787">
                <a:moveTo>
                  <a:pt x="7640" y="12849"/>
                </a:moveTo>
                <a:cubicBezTo>
                  <a:pt x="7672" y="12838"/>
                  <a:pt x="7901" y="12788"/>
                  <a:pt x="7938" y="12750"/>
                </a:cubicBezTo>
                <a:cubicBezTo>
                  <a:pt x="7946" y="12733"/>
                  <a:pt x="7954" y="12717"/>
                  <a:pt x="7962" y="12700"/>
                </a:cubicBezTo>
              </a:path>
              <a:path w="3771" h="1787">
                <a:moveTo>
                  <a:pt x="8037" y="12427"/>
                </a:moveTo>
                <a:cubicBezTo>
                  <a:pt x="8107" y="12542"/>
                  <a:pt x="8171" y="12659"/>
                  <a:pt x="8235" y="12774"/>
                </a:cubicBezTo>
                <a:cubicBezTo>
                  <a:pt x="8291" y="12874"/>
                  <a:pt x="8377" y="12946"/>
                  <a:pt x="8434" y="13047"/>
                </a:cubicBezTo>
              </a:path>
              <a:path w="3771" h="1787">
                <a:moveTo>
                  <a:pt x="8334" y="12427"/>
                </a:moveTo>
                <a:cubicBezTo>
                  <a:pt x="8263" y="12526"/>
                  <a:pt x="8219" y="12621"/>
                  <a:pt x="8161" y="12725"/>
                </a:cubicBezTo>
                <a:cubicBezTo>
                  <a:pt x="8106" y="12823"/>
                  <a:pt x="8055" y="12918"/>
                  <a:pt x="8012" y="13022"/>
                </a:cubicBezTo>
                <a:cubicBezTo>
                  <a:pt x="7986" y="13086"/>
                  <a:pt x="7951" y="13154"/>
                  <a:pt x="7938" y="13221"/>
                </a:cubicBezTo>
              </a:path>
              <a:path w="3771" h="1787">
                <a:moveTo>
                  <a:pt x="8434" y="12129"/>
                </a:moveTo>
                <a:cubicBezTo>
                  <a:pt x="8489" y="12118"/>
                  <a:pt x="8654" y="12057"/>
                  <a:pt x="8632" y="12179"/>
                </a:cubicBezTo>
                <a:cubicBezTo>
                  <a:pt x="8624" y="12225"/>
                  <a:pt x="8563" y="12295"/>
                  <a:pt x="8533" y="12328"/>
                </a:cubicBezTo>
                <a:cubicBezTo>
                  <a:pt x="8508" y="12353"/>
                  <a:pt x="8500" y="12361"/>
                  <a:pt x="8483" y="12378"/>
                </a:cubicBezTo>
                <a:cubicBezTo>
                  <a:pt x="8537" y="12430"/>
                  <a:pt x="8563" y="12434"/>
                  <a:pt x="8632" y="12452"/>
                </a:cubicBezTo>
                <a:cubicBezTo>
                  <a:pt x="8727" y="12477"/>
                  <a:pt x="8765" y="12470"/>
                  <a:pt x="8855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18"/>
          <p:cNvSpPr/>
          <p:nvPr/>
        </p:nvSpPr>
        <p:spPr>
          <a:xfrm>
            <a:off x="98280" y="4875120"/>
            <a:ext cx="3616560" cy="858960"/>
          </a:xfrm>
          <a:custGeom>
            <a:avLst/>
            <a:gdLst/>
            <a:ahLst/>
            <a:rect l="l" t="t" r="r" b="b"/>
            <a:pathLst>
              <a:path w="10047" h="2383">
                <a:moveTo>
                  <a:pt x="769" y="14015"/>
                </a:moveTo>
                <a:cubicBezTo>
                  <a:pt x="841" y="14007"/>
                  <a:pt x="909" y="13996"/>
                  <a:pt x="967" y="13965"/>
                </a:cubicBezTo>
                <a:cubicBezTo>
                  <a:pt x="1011" y="13943"/>
                  <a:pt x="1023" y="13940"/>
                  <a:pt x="1042" y="13915"/>
                </a:cubicBezTo>
              </a:path>
              <a:path w="10047" h="2383">
                <a:moveTo>
                  <a:pt x="744" y="14089"/>
                </a:moveTo>
                <a:cubicBezTo>
                  <a:pt x="728" y="14114"/>
                  <a:pt x="711" y="14138"/>
                  <a:pt x="695" y="14163"/>
                </a:cubicBezTo>
                <a:cubicBezTo>
                  <a:pt x="750" y="14197"/>
                  <a:pt x="810" y="14184"/>
                  <a:pt x="868" y="14213"/>
                </a:cubicBezTo>
                <a:cubicBezTo>
                  <a:pt x="936" y="14247"/>
                  <a:pt x="980" y="14321"/>
                  <a:pt x="1017" y="14387"/>
                </a:cubicBezTo>
                <a:cubicBezTo>
                  <a:pt x="1053" y="14451"/>
                  <a:pt x="1049" y="14510"/>
                  <a:pt x="1042" y="14560"/>
                </a:cubicBezTo>
                <a:cubicBezTo>
                  <a:pt x="1032" y="14637"/>
                  <a:pt x="999" y="14646"/>
                  <a:pt x="918" y="14660"/>
                </a:cubicBezTo>
                <a:cubicBezTo>
                  <a:pt x="847" y="14672"/>
                  <a:pt x="777" y="14651"/>
                  <a:pt x="719" y="14610"/>
                </a:cubicBezTo>
                <a:cubicBezTo>
                  <a:pt x="662" y="14570"/>
                  <a:pt x="637" y="14593"/>
                  <a:pt x="620" y="14511"/>
                </a:cubicBezTo>
              </a:path>
              <a:path w="10047" h="2383">
                <a:moveTo>
                  <a:pt x="918" y="13667"/>
                </a:moveTo>
                <a:cubicBezTo>
                  <a:pt x="773" y="13573"/>
                  <a:pt x="742" y="13502"/>
                  <a:pt x="595" y="13568"/>
                </a:cubicBezTo>
                <a:cubicBezTo>
                  <a:pt x="497" y="13612"/>
                  <a:pt x="448" y="13684"/>
                  <a:pt x="397" y="13767"/>
                </a:cubicBezTo>
                <a:cubicBezTo>
                  <a:pt x="342" y="13856"/>
                  <a:pt x="280" y="13959"/>
                  <a:pt x="273" y="14064"/>
                </a:cubicBezTo>
                <a:cubicBezTo>
                  <a:pt x="265" y="14186"/>
                  <a:pt x="273" y="14299"/>
                  <a:pt x="322" y="14412"/>
                </a:cubicBezTo>
                <a:cubicBezTo>
                  <a:pt x="372" y="14527"/>
                  <a:pt x="461" y="14619"/>
                  <a:pt x="546" y="14709"/>
                </a:cubicBezTo>
                <a:cubicBezTo>
                  <a:pt x="627" y="14795"/>
                  <a:pt x="725" y="14842"/>
                  <a:pt x="843" y="14858"/>
                </a:cubicBezTo>
                <a:cubicBezTo>
                  <a:pt x="906" y="14866"/>
                  <a:pt x="1044" y="14831"/>
                  <a:pt x="1091" y="14784"/>
                </a:cubicBezTo>
                <a:cubicBezTo>
                  <a:pt x="1181" y="14694"/>
                  <a:pt x="1211" y="14582"/>
                  <a:pt x="1215" y="14461"/>
                </a:cubicBezTo>
                <a:cubicBezTo>
                  <a:pt x="1219" y="14343"/>
                  <a:pt x="1171" y="14262"/>
                  <a:pt x="1116" y="14163"/>
                </a:cubicBezTo>
                <a:cubicBezTo>
                  <a:pt x="1076" y="14090"/>
                  <a:pt x="1012" y="14036"/>
                  <a:pt x="943" y="13990"/>
                </a:cubicBezTo>
                <a:cubicBezTo>
                  <a:pt x="903" y="13964"/>
                  <a:pt x="791" y="13929"/>
                  <a:pt x="744" y="13940"/>
                </a:cubicBezTo>
                <a:cubicBezTo>
                  <a:pt x="704" y="13960"/>
                  <a:pt x="698" y="13969"/>
                  <a:pt x="670" y="13965"/>
                </a:cubicBezTo>
              </a:path>
              <a:path w="10047" h="2383">
                <a:moveTo>
                  <a:pt x="2084" y="14188"/>
                </a:moveTo>
                <a:cubicBezTo>
                  <a:pt x="2113" y="14139"/>
                  <a:pt x="2108" y="14100"/>
                  <a:pt x="2108" y="14039"/>
                </a:cubicBezTo>
                <a:cubicBezTo>
                  <a:pt x="2108" y="13994"/>
                  <a:pt x="2093" y="13887"/>
                  <a:pt x="2034" y="13866"/>
                </a:cubicBezTo>
                <a:cubicBezTo>
                  <a:pt x="1970" y="13843"/>
                  <a:pt x="1926" y="13874"/>
                  <a:pt x="1885" y="13915"/>
                </a:cubicBezTo>
                <a:cubicBezTo>
                  <a:pt x="1819" y="13980"/>
                  <a:pt x="1836" y="14051"/>
                  <a:pt x="1836" y="14139"/>
                </a:cubicBezTo>
                <a:cubicBezTo>
                  <a:pt x="1836" y="14270"/>
                  <a:pt x="1873" y="14410"/>
                  <a:pt x="1910" y="14536"/>
                </a:cubicBezTo>
                <a:cubicBezTo>
                  <a:pt x="1934" y="14619"/>
                  <a:pt x="1934" y="14705"/>
                  <a:pt x="1960" y="14784"/>
                </a:cubicBezTo>
                <a:cubicBezTo>
                  <a:pt x="1968" y="14800"/>
                  <a:pt x="1976" y="14817"/>
                  <a:pt x="1984" y="14833"/>
                </a:cubicBezTo>
              </a:path>
              <a:path w="10047" h="2383">
                <a:moveTo>
                  <a:pt x="1712" y="14312"/>
                </a:moveTo>
                <a:cubicBezTo>
                  <a:pt x="1798" y="14356"/>
                  <a:pt x="1862" y="14383"/>
                  <a:pt x="1960" y="14387"/>
                </a:cubicBezTo>
                <a:cubicBezTo>
                  <a:pt x="2073" y="14391"/>
                  <a:pt x="2170" y="14377"/>
                  <a:pt x="2282" y="14362"/>
                </a:cubicBezTo>
              </a:path>
              <a:path w="10047" h="2383">
                <a:moveTo>
                  <a:pt x="2580" y="13990"/>
                </a:moveTo>
                <a:cubicBezTo>
                  <a:pt x="2524" y="14069"/>
                  <a:pt x="2488" y="14120"/>
                  <a:pt x="2456" y="14213"/>
                </a:cubicBezTo>
                <a:cubicBezTo>
                  <a:pt x="2417" y="14328"/>
                  <a:pt x="2410" y="14464"/>
                  <a:pt x="2406" y="14585"/>
                </a:cubicBezTo>
                <a:cubicBezTo>
                  <a:pt x="2402" y="14695"/>
                  <a:pt x="2435" y="14808"/>
                  <a:pt x="2480" y="14908"/>
                </a:cubicBezTo>
                <a:cubicBezTo>
                  <a:pt x="2502" y="14951"/>
                  <a:pt x="2506" y="14963"/>
                  <a:pt x="2530" y="14982"/>
                </a:cubicBezTo>
              </a:path>
              <a:path w="10047" h="2383">
                <a:moveTo>
                  <a:pt x="2604" y="14288"/>
                </a:moveTo>
                <a:cubicBezTo>
                  <a:pt x="2654" y="14395"/>
                  <a:pt x="2706" y="14504"/>
                  <a:pt x="2753" y="14610"/>
                </a:cubicBezTo>
                <a:cubicBezTo>
                  <a:pt x="2800" y="14716"/>
                  <a:pt x="2841" y="14785"/>
                  <a:pt x="2927" y="14858"/>
                </a:cubicBezTo>
                <a:cubicBezTo>
                  <a:pt x="2957" y="14888"/>
                  <a:pt x="2971" y="14899"/>
                  <a:pt x="3001" y="14908"/>
                </a:cubicBezTo>
              </a:path>
              <a:path w="10047" h="2383">
                <a:moveTo>
                  <a:pt x="3051" y="14362"/>
                </a:moveTo>
                <a:cubicBezTo>
                  <a:pt x="3026" y="14329"/>
                  <a:pt x="3002" y="14296"/>
                  <a:pt x="2977" y="14263"/>
                </a:cubicBezTo>
                <a:cubicBezTo>
                  <a:pt x="2931" y="14309"/>
                  <a:pt x="2891" y="14360"/>
                  <a:pt x="2853" y="14412"/>
                </a:cubicBezTo>
                <a:cubicBezTo>
                  <a:pt x="2791" y="14496"/>
                  <a:pt x="2725" y="14614"/>
                  <a:pt x="2679" y="14709"/>
                </a:cubicBezTo>
                <a:cubicBezTo>
                  <a:pt x="2651" y="14768"/>
                  <a:pt x="2618" y="14850"/>
                  <a:pt x="2604" y="14908"/>
                </a:cubicBezTo>
              </a:path>
              <a:path w="10047" h="2383">
                <a:moveTo>
                  <a:pt x="2977" y="13791"/>
                </a:moveTo>
                <a:cubicBezTo>
                  <a:pt x="3036" y="13911"/>
                  <a:pt x="3107" y="14036"/>
                  <a:pt x="3150" y="14163"/>
                </a:cubicBezTo>
                <a:cubicBezTo>
                  <a:pt x="3198" y="14305"/>
                  <a:pt x="3220" y="14462"/>
                  <a:pt x="3225" y="14610"/>
                </a:cubicBezTo>
                <a:cubicBezTo>
                  <a:pt x="3228" y="14710"/>
                  <a:pt x="3239" y="14822"/>
                  <a:pt x="3175" y="14908"/>
                </a:cubicBezTo>
                <a:cubicBezTo>
                  <a:pt x="3113" y="14991"/>
                  <a:pt x="3084" y="15001"/>
                  <a:pt x="3026" y="14932"/>
                </a:cubicBezTo>
              </a:path>
              <a:path w="10047" h="2383">
                <a:moveTo>
                  <a:pt x="3324" y="14387"/>
                </a:moveTo>
                <a:cubicBezTo>
                  <a:pt x="3449" y="14375"/>
                  <a:pt x="3526" y="14387"/>
                  <a:pt x="3646" y="14387"/>
                </a:cubicBezTo>
                <a:cubicBezTo>
                  <a:pt x="3654" y="14387"/>
                  <a:pt x="3663" y="14387"/>
                  <a:pt x="3671" y="14387"/>
                </a:cubicBezTo>
              </a:path>
              <a:path w="10047" h="2383">
                <a:moveTo>
                  <a:pt x="3349" y="14560"/>
                </a:moveTo>
                <a:cubicBezTo>
                  <a:pt x="3414" y="14613"/>
                  <a:pt x="3448" y="14622"/>
                  <a:pt x="3522" y="14585"/>
                </a:cubicBezTo>
                <a:cubicBezTo>
                  <a:pt x="3539" y="14577"/>
                  <a:pt x="3555" y="14568"/>
                  <a:pt x="3572" y="14560"/>
                </a:cubicBezTo>
              </a:path>
              <a:path w="10047" h="2383">
                <a:moveTo>
                  <a:pt x="3746" y="14213"/>
                </a:moveTo>
                <a:cubicBezTo>
                  <a:pt x="3795" y="14276"/>
                  <a:pt x="3813" y="14339"/>
                  <a:pt x="3845" y="14412"/>
                </a:cubicBezTo>
                <a:cubicBezTo>
                  <a:pt x="3891" y="14517"/>
                  <a:pt x="3945" y="14606"/>
                  <a:pt x="3994" y="14709"/>
                </a:cubicBezTo>
                <a:cubicBezTo>
                  <a:pt x="4028" y="14781"/>
                  <a:pt x="4070" y="14884"/>
                  <a:pt x="4142" y="14932"/>
                </a:cubicBezTo>
                <a:cubicBezTo>
                  <a:pt x="4150" y="14932"/>
                  <a:pt x="4159" y="14932"/>
                  <a:pt x="4167" y="14932"/>
                </a:cubicBezTo>
              </a:path>
              <a:path w="10047" h="2383">
                <a:moveTo>
                  <a:pt x="4018" y="14263"/>
                </a:moveTo>
                <a:cubicBezTo>
                  <a:pt x="3969" y="14362"/>
                  <a:pt x="3928" y="14455"/>
                  <a:pt x="3894" y="14560"/>
                </a:cubicBezTo>
                <a:cubicBezTo>
                  <a:pt x="3861" y="14662"/>
                  <a:pt x="3850" y="14758"/>
                  <a:pt x="3820" y="14858"/>
                </a:cubicBezTo>
                <a:cubicBezTo>
                  <a:pt x="3798" y="14932"/>
                  <a:pt x="3769" y="14997"/>
                  <a:pt x="3721" y="15056"/>
                </a:cubicBezTo>
              </a:path>
              <a:path w="10047" h="2383">
                <a:moveTo>
                  <a:pt x="4118" y="14089"/>
                </a:moveTo>
                <a:cubicBezTo>
                  <a:pt x="4294" y="14001"/>
                  <a:pt x="4245" y="14016"/>
                  <a:pt x="4390" y="14064"/>
                </a:cubicBezTo>
                <a:cubicBezTo>
                  <a:pt x="4437" y="14080"/>
                  <a:pt x="4415" y="14182"/>
                  <a:pt x="4415" y="14238"/>
                </a:cubicBezTo>
                <a:cubicBezTo>
                  <a:pt x="4415" y="14333"/>
                  <a:pt x="4401" y="14382"/>
                  <a:pt x="4341" y="14436"/>
                </a:cubicBezTo>
                <a:cubicBezTo>
                  <a:pt x="4298" y="14475"/>
                  <a:pt x="4258" y="14511"/>
                  <a:pt x="4192" y="14486"/>
                </a:cubicBezTo>
                <a:cubicBezTo>
                  <a:pt x="4167" y="14461"/>
                  <a:pt x="4159" y="14453"/>
                  <a:pt x="4142" y="14436"/>
                </a:cubicBezTo>
                <a:cubicBezTo>
                  <a:pt x="4230" y="14349"/>
                  <a:pt x="4217" y="14413"/>
                  <a:pt x="4316" y="14436"/>
                </a:cubicBezTo>
                <a:cubicBezTo>
                  <a:pt x="4374" y="14449"/>
                  <a:pt x="4375" y="14456"/>
                  <a:pt x="4415" y="14436"/>
                </a:cubicBezTo>
              </a:path>
              <a:path w="10047" h="2383">
                <a:moveTo>
                  <a:pt x="4787" y="14312"/>
                </a:moveTo>
                <a:cubicBezTo>
                  <a:pt x="4787" y="14482"/>
                  <a:pt x="4807" y="14623"/>
                  <a:pt x="4812" y="14784"/>
                </a:cubicBezTo>
                <a:cubicBezTo>
                  <a:pt x="4812" y="14817"/>
                  <a:pt x="4812" y="14850"/>
                  <a:pt x="4812" y="14883"/>
                </a:cubicBezTo>
              </a:path>
              <a:path w="10047" h="2383">
                <a:moveTo>
                  <a:pt x="4614" y="14635"/>
                </a:moveTo>
                <a:cubicBezTo>
                  <a:pt x="4702" y="14643"/>
                  <a:pt x="4774" y="14672"/>
                  <a:pt x="4862" y="14684"/>
                </a:cubicBezTo>
                <a:cubicBezTo>
                  <a:pt x="4920" y="14692"/>
                  <a:pt x="5008" y="14650"/>
                  <a:pt x="5060" y="14635"/>
                </a:cubicBezTo>
              </a:path>
              <a:path w="10047" h="2383">
                <a:moveTo>
                  <a:pt x="5234" y="14337"/>
                </a:moveTo>
                <a:cubicBezTo>
                  <a:pt x="5325" y="14353"/>
                  <a:pt x="5418" y="14382"/>
                  <a:pt x="5507" y="14387"/>
                </a:cubicBezTo>
                <a:cubicBezTo>
                  <a:pt x="5551" y="14387"/>
                  <a:pt x="5565" y="14390"/>
                  <a:pt x="5581" y="14362"/>
                </a:cubicBezTo>
              </a:path>
              <a:path w="10047" h="2383">
                <a:moveTo>
                  <a:pt x="5259" y="14263"/>
                </a:moveTo>
                <a:cubicBezTo>
                  <a:pt x="5222" y="14315"/>
                  <a:pt x="5146" y="14394"/>
                  <a:pt x="5135" y="14461"/>
                </a:cubicBezTo>
                <a:cubicBezTo>
                  <a:pt x="5124" y="14525"/>
                  <a:pt x="5108" y="14579"/>
                  <a:pt x="5135" y="14635"/>
                </a:cubicBezTo>
                <a:cubicBezTo>
                  <a:pt x="5158" y="14683"/>
                  <a:pt x="5264" y="14660"/>
                  <a:pt x="5308" y="14660"/>
                </a:cubicBezTo>
                <a:cubicBezTo>
                  <a:pt x="5381" y="14660"/>
                  <a:pt x="5423" y="14677"/>
                  <a:pt x="5482" y="14709"/>
                </a:cubicBezTo>
                <a:cubicBezTo>
                  <a:pt x="5556" y="14749"/>
                  <a:pt x="5562" y="14788"/>
                  <a:pt x="5581" y="14858"/>
                </a:cubicBezTo>
                <a:cubicBezTo>
                  <a:pt x="5608" y="14958"/>
                  <a:pt x="5602" y="15008"/>
                  <a:pt x="5531" y="15081"/>
                </a:cubicBezTo>
                <a:cubicBezTo>
                  <a:pt x="5487" y="15126"/>
                  <a:pt x="5410" y="15113"/>
                  <a:pt x="5358" y="15081"/>
                </a:cubicBezTo>
                <a:cubicBezTo>
                  <a:pt x="5305" y="15048"/>
                  <a:pt x="5317" y="15021"/>
                  <a:pt x="5333" y="14982"/>
                </a:cubicBezTo>
              </a:path>
              <a:path w="10047" h="2383">
                <a:moveTo>
                  <a:pt x="6548" y="14759"/>
                </a:moveTo>
                <a:cubicBezTo>
                  <a:pt x="6576" y="14704"/>
                  <a:pt x="6591" y="14605"/>
                  <a:pt x="6573" y="14536"/>
                </a:cubicBezTo>
                <a:cubicBezTo>
                  <a:pt x="6563" y="14500"/>
                  <a:pt x="6518" y="14399"/>
                  <a:pt x="6474" y="14387"/>
                </a:cubicBezTo>
                <a:cubicBezTo>
                  <a:pt x="6411" y="14369"/>
                  <a:pt x="6346" y="14433"/>
                  <a:pt x="6300" y="14461"/>
                </a:cubicBezTo>
                <a:cubicBezTo>
                  <a:pt x="6235" y="14500"/>
                  <a:pt x="6183" y="14559"/>
                  <a:pt x="6176" y="14635"/>
                </a:cubicBezTo>
                <a:cubicBezTo>
                  <a:pt x="6169" y="14713"/>
                  <a:pt x="6170" y="14788"/>
                  <a:pt x="6201" y="14858"/>
                </a:cubicBezTo>
                <a:cubicBezTo>
                  <a:pt x="6237" y="14939"/>
                  <a:pt x="6331" y="14958"/>
                  <a:pt x="6400" y="14908"/>
                </a:cubicBezTo>
                <a:cubicBezTo>
                  <a:pt x="6436" y="14882"/>
                  <a:pt x="6500" y="14842"/>
                  <a:pt x="6524" y="14808"/>
                </a:cubicBezTo>
                <a:cubicBezTo>
                  <a:pt x="6548" y="14759"/>
                  <a:pt x="6556" y="14742"/>
                  <a:pt x="6573" y="14709"/>
                </a:cubicBezTo>
                <a:cubicBezTo>
                  <a:pt x="6573" y="14976"/>
                  <a:pt x="6580" y="15239"/>
                  <a:pt x="6598" y="15503"/>
                </a:cubicBezTo>
                <a:cubicBezTo>
                  <a:pt x="6605" y="15614"/>
                  <a:pt x="6611" y="15745"/>
                  <a:pt x="6573" y="15850"/>
                </a:cubicBezTo>
                <a:cubicBezTo>
                  <a:pt x="6551" y="15894"/>
                  <a:pt x="6548" y="15905"/>
                  <a:pt x="6524" y="15925"/>
                </a:cubicBezTo>
                <a:cubicBezTo>
                  <a:pt x="6448" y="15881"/>
                  <a:pt x="6445" y="15850"/>
                  <a:pt x="6400" y="15776"/>
                </a:cubicBezTo>
                <a:cubicBezTo>
                  <a:pt x="6322" y="15647"/>
                  <a:pt x="6299" y="15498"/>
                  <a:pt x="6251" y="15354"/>
                </a:cubicBezTo>
              </a:path>
              <a:path w="10047" h="2383">
                <a:moveTo>
                  <a:pt x="6672" y="14089"/>
                </a:moveTo>
                <a:cubicBezTo>
                  <a:pt x="6654" y="14183"/>
                  <a:pt x="6606" y="14317"/>
                  <a:pt x="6623" y="14412"/>
                </a:cubicBezTo>
                <a:cubicBezTo>
                  <a:pt x="6652" y="14571"/>
                  <a:pt x="6713" y="14711"/>
                  <a:pt x="6772" y="14858"/>
                </a:cubicBezTo>
                <a:cubicBezTo>
                  <a:pt x="6800" y="14930"/>
                  <a:pt x="6817" y="14953"/>
                  <a:pt x="6871" y="15007"/>
                </a:cubicBezTo>
              </a:path>
              <a:path w="10047" h="2383">
                <a:moveTo>
                  <a:pt x="6970" y="14486"/>
                </a:moveTo>
                <a:cubicBezTo>
                  <a:pt x="7029" y="14595"/>
                  <a:pt x="7092" y="14697"/>
                  <a:pt x="7144" y="14808"/>
                </a:cubicBezTo>
                <a:cubicBezTo>
                  <a:pt x="7177" y="14878"/>
                  <a:pt x="7241" y="14993"/>
                  <a:pt x="7317" y="15032"/>
                </a:cubicBezTo>
                <a:cubicBezTo>
                  <a:pt x="7325" y="15032"/>
                  <a:pt x="7334" y="15032"/>
                  <a:pt x="7342" y="15032"/>
                </a:cubicBezTo>
              </a:path>
              <a:path w="10047" h="2383">
                <a:moveTo>
                  <a:pt x="7268" y="14436"/>
                </a:moveTo>
                <a:cubicBezTo>
                  <a:pt x="7162" y="14504"/>
                  <a:pt x="7100" y="14565"/>
                  <a:pt x="7045" y="14684"/>
                </a:cubicBezTo>
                <a:cubicBezTo>
                  <a:pt x="6995" y="14794"/>
                  <a:pt x="6987" y="14930"/>
                  <a:pt x="6921" y="15032"/>
                </a:cubicBezTo>
                <a:cubicBezTo>
                  <a:pt x="6898" y="15054"/>
                  <a:pt x="6890" y="15059"/>
                  <a:pt x="6896" y="15081"/>
                </a:cubicBezTo>
              </a:path>
              <a:path w="10047" h="2383">
                <a:moveTo>
                  <a:pt x="7193" y="13965"/>
                </a:moveTo>
                <a:cubicBezTo>
                  <a:pt x="7268" y="14069"/>
                  <a:pt x="7352" y="14188"/>
                  <a:pt x="7392" y="14312"/>
                </a:cubicBezTo>
                <a:cubicBezTo>
                  <a:pt x="7431" y="14434"/>
                  <a:pt x="7461" y="14582"/>
                  <a:pt x="7466" y="14709"/>
                </a:cubicBezTo>
                <a:cubicBezTo>
                  <a:pt x="7469" y="14793"/>
                  <a:pt x="7439" y="15023"/>
                  <a:pt x="7317" y="14982"/>
                </a:cubicBezTo>
                <a:cubicBezTo>
                  <a:pt x="7309" y="14974"/>
                  <a:pt x="7301" y="14965"/>
                  <a:pt x="7293" y="14957"/>
                </a:cubicBezTo>
              </a:path>
              <a:path w="10047" h="2383">
                <a:moveTo>
                  <a:pt x="7714" y="14461"/>
                </a:moveTo>
                <a:cubicBezTo>
                  <a:pt x="7795" y="14483"/>
                  <a:pt x="7854" y="14486"/>
                  <a:pt x="7938" y="14486"/>
                </a:cubicBezTo>
              </a:path>
              <a:path w="10047" h="2383">
                <a:moveTo>
                  <a:pt x="7665" y="14635"/>
                </a:moveTo>
                <a:cubicBezTo>
                  <a:pt x="7703" y="14666"/>
                  <a:pt x="7764" y="14722"/>
                  <a:pt x="7813" y="14734"/>
                </a:cubicBezTo>
                <a:cubicBezTo>
                  <a:pt x="7830" y="14734"/>
                  <a:pt x="7846" y="14734"/>
                  <a:pt x="7863" y="14734"/>
                </a:cubicBezTo>
              </a:path>
              <a:path w="10047" h="2383">
                <a:moveTo>
                  <a:pt x="7938" y="14064"/>
                </a:moveTo>
                <a:cubicBezTo>
                  <a:pt x="8011" y="14064"/>
                  <a:pt x="8068" y="14060"/>
                  <a:pt x="8136" y="14089"/>
                </a:cubicBezTo>
                <a:cubicBezTo>
                  <a:pt x="8224" y="14126"/>
                  <a:pt x="8253" y="14168"/>
                  <a:pt x="8310" y="14238"/>
                </a:cubicBezTo>
                <a:cubicBezTo>
                  <a:pt x="8385" y="14329"/>
                  <a:pt x="8384" y="14374"/>
                  <a:pt x="8409" y="14486"/>
                </a:cubicBezTo>
                <a:cubicBezTo>
                  <a:pt x="8430" y="14577"/>
                  <a:pt x="8450" y="14666"/>
                  <a:pt x="8458" y="14759"/>
                </a:cubicBezTo>
                <a:cubicBezTo>
                  <a:pt x="8465" y="14839"/>
                  <a:pt x="8467" y="14928"/>
                  <a:pt x="8483" y="15007"/>
                </a:cubicBezTo>
                <a:cubicBezTo>
                  <a:pt x="8483" y="15051"/>
                  <a:pt x="8480" y="15065"/>
                  <a:pt x="8508" y="15081"/>
                </a:cubicBezTo>
                <a:cubicBezTo>
                  <a:pt x="8534" y="14979"/>
                  <a:pt x="8533" y="14890"/>
                  <a:pt x="8533" y="14784"/>
                </a:cubicBezTo>
                <a:cubicBezTo>
                  <a:pt x="8533" y="14566"/>
                  <a:pt x="8524" y="14355"/>
                  <a:pt x="8508" y="14139"/>
                </a:cubicBezTo>
                <a:cubicBezTo>
                  <a:pt x="8503" y="14075"/>
                  <a:pt x="8488" y="13960"/>
                  <a:pt x="8533" y="13915"/>
                </a:cubicBezTo>
                <a:cubicBezTo>
                  <a:pt x="8587" y="13861"/>
                  <a:pt x="8646" y="13901"/>
                  <a:pt x="8706" y="13915"/>
                </a:cubicBezTo>
                <a:cubicBezTo>
                  <a:pt x="8790" y="13934"/>
                  <a:pt x="8893" y="13957"/>
                  <a:pt x="8979" y="13965"/>
                </a:cubicBezTo>
                <a:cubicBezTo>
                  <a:pt x="9112" y="13977"/>
                  <a:pt x="9244" y="14004"/>
                  <a:pt x="9376" y="14015"/>
                </a:cubicBezTo>
                <a:cubicBezTo>
                  <a:pt x="9508" y="14026"/>
                  <a:pt x="9642" y="14035"/>
                  <a:pt x="9773" y="14039"/>
                </a:cubicBezTo>
                <a:cubicBezTo>
                  <a:pt x="9940" y="14044"/>
                  <a:pt x="10110" y="14034"/>
                  <a:pt x="10269" y="14015"/>
                </a:cubicBezTo>
                <a:cubicBezTo>
                  <a:pt x="10286" y="14015"/>
                  <a:pt x="10302" y="14015"/>
                  <a:pt x="10319" y="14015"/>
                </a:cubicBezTo>
              </a:path>
              <a:path w="10047" h="2383">
                <a:moveTo>
                  <a:pt x="8830" y="14337"/>
                </a:moveTo>
                <a:cubicBezTo>
                  <a:pt x="8911" y="14406"/>
                  <a:pt x="8905" y="14452"/>
                  <a:pt x="8905" y="14560"/>
                </a:cubicBezTo>
                <a:cubicBezTo>
                  <a:pt x="8905" y="14739"/>
                  <a:pt x="8903" y="14912"/>
                  <a:pt x="8930" y="15081"/>
                </a:cubicBezTo>
                <a:cubicBezTo>
                  <a:pt x="8930" y="15131"/>
                  <a:pt x="8930" y="15147"/>
                  <a:pt x="8930" y="15180"/>
                </a:cubicBezTo>
              </a:path>
              <a:path w="10047" h="2383">
                <a:moveTo>
                  <a:pt x="9004" y="14759"/>
                </a:moveTo>
                <a:cubicBezTo>
                  <a:pt x="9172" y="14650"/>
                  <a:pt x="9116" y="14743"/>
                  <a:pt x="9277" y="14709"/>
                </a:cubicBezTo>
                <a:cubicBezTo>
                  <a:pt x="9317" y="14689"/>
                  <a:pt x="9324" y="14680"/>
                  <a:pt x="9351" y="14684"/>
                </a:cubicBezTo>
              </a:path>
              <a:path w="10047" h="2383">
                <a:moveTo>
                  <a:pt x="9451" y="14511"/>
                </a:moveTo>
                <a:cubicBezTo>
                  <a:pt x="9487" y="14622"/>
                  <a:pt x="9496" y="14753"/>
                  <a:pt x="9550" y="14858"/>
                </a:cubicBezTo>
                <a:cubicBezTo>
                  <a:pt x="9608" y="14970"/>
                  <a:pt x="9684" y="15072"/>
                  <a:pt x="9748" y="15180"/>
                </a:cubicBezTo>
                <a:cubicBezTo>
                  <a:pt x="9775" y="15234"/>
                  <a:pt x="9787" y="15255"/>
                  <a:pt x="9823" y="15280"/>
                </a:cubicBezTo>
              </a:path>
              <a:path w="10047" h="2383">
                <a:moveTo>
                  <a:pt x="9847" y="14536"/>
                </a:moveTo>
                <a:cubicBezTo>
                  <a:pt x="9667" y="14599"/>
                  <a:pt x="9632" y="14677"/>
                  <a:pt x="9525" y="14858"/>
                </a:cubicBezTo>
                <a:cubicBezTo>
                  <a:pt x="9443" y="14998"/>
                  <a:pt x="9371" y="15132"/>
                  <a:pt x="9302" y="152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19"/>
          <p:cNvSpPr/>
          <p:nvPr/>
        </p:nvSpPr>
        <p:spPr>
          <a:xfrm>
            <a:off x="27000" y="5464080"/>
            <a:ext cx="1446120" cy="750960"/>
          </a:xfrm>
          <a:custGeom>
            <a:avLst/>
            <a:gdLst/>
            <a:ahLst/>
            <a:rect l="l" t="t" r="r" b="b"/>
            <a:pathLst>
              <a:path w="4020" h="2085">
                <a:moveTo>
                  <a:pt x="620" y="15627"/>
                </a:moveTo>
                <a:cubicBezTo>
                  <a:pt x="683" y="15659"/>
                  <a:pt x="791" y="15666"/>
                  <a:pt x="868" y="15677"/>
                </a:cubicBezTo>
                <a:cubicBezTo>
                  <a:pt x="962" y="15690"/>
                  <a:pt x="952" y="15697"/>
                  <a:pt x="943" y="15776"/>
                </a:cubicBezTo>
                <a:cubicBezTo>
                  <a:pt x="934" y="15853"/>
                  <a:pt x="913" y="15922"/>
                  <a:pt x="893" y="15999"/>
                </a:cubicBezTo>
                <a:cubicBezTo>
                  <a:pt x="877" y="16060"/>
                  <a:pt x="854" y="16144"/>
                  <a:pt x="843" y="16197"/>
                </a:cubicBezTo>
                <a:cubicBezTo>
                  <a:pt x="831" y="16254"/>
                  <a:pt x="845" y="16301"/>
                  <a:pt x="868" y="16346"/>
                </a:cubicBezTo>
                <a:cubicBezTo>
                  <a:pt x="891" y="16279"/>
                  <a:pt x="896" y="16261"/>
                  <a:pt x="918" y="16222"/>
                </a:cubicBezTo>
              </a:path>
              <a:path w="4020" h="2085">
                <a:moveTo>
                  <a:pt x="967" y="15503"/>
                </a:moveTo>
                <a:cubicBezTo>
                  <a:pt x="935" y="15412"/>
                  <a:pt x="931" y="15342"/>
                  <a:pt x="868" y="15280"/>
                </a:cubicBezTo>
                <a:cubicBezTo>
                  <a:pt x="825" y="15238"/>
                  <a:pt x="795" y="15228"/>
                  <a:pt x="744" y="15205"/>
                </a:cubicBezTo>
                <a:cubicBezTo>
                  <a:pt x="679" y="15176"/>
                  <a:pt x="593" y="15165"/>
                  <a:pt x="521" y="15180"/>
                </a:cubicBezTo>
                <a:cubicBezTo>
                  <a:pt x="427" y="15200"/>
                  <a:pt x="323" y="15243"/>
                  <a:pt x="248" y="15304"/>
                </a:cubicBezTo>
                <a:cubicBezTo>
                  <a:pt x="178" y="15360"/>
                  <a:pt x="116" y="15422"/>
                  <a:pt x="99" y="15503"/>
                </a:cubicBezTo>
                <a:cubicBezTo>
                  <a:pt x="81" y="15586"/>
                  <a:pt x="68" y="15700"/>
                  <a:pt x="124" y="15776"/>
                </a:cubicBezTo>
                <a:cubicBezTo>
                  <a:pt x="179" y="15851"/>
                  <a:pt x="242" y="15924"/>
                  <a:pt x="298" y="15999"/>
                </a:cubicBezTo>
                <a:cubicBezTo>
                  <a:pt x="372" y="16097"/>
                  <a:pt x="412" y="16146"/>
                  <a:pt x="521" y="16197"/>
                </a:cubicBezTo>
                <a:cubicBezTo>
                  <a:pt x="592" y="16230"/>
                  <a:pt x="638" y="16304"/>
                  <a:pt x="719" y="16321"/>
                </a:cubicBezTo>
                <a:cubicBezTo>
                  <a:pt x="783" y="16335"/>
                  <a:pt x="861" y="16322"/>
                  <a:pt x="918" y="16297"/>
                </a:cubicBezTo>
                <a:cubicBezTo>
                  <a:pt x="998" y="16262"/>
                  <a:pt x="1019" y="16238"/>
                  <a:pt x="1067" y="16173"/>
                </a:cubicBezTo>
                <a:cubicBezTo>
                  <a:pt x="1105" y="16122"/>
                  <a:pt x="1131" y="16061"/>
                  <a:pt x="1141" y="15999"/>
                </a:cubicBezTo>
                <a:cubicBezTo>
                  <a:pt x="1151" y="15938"/>
                  <a:pt x="1134" y="15856"/>
                  <a:pt x="1116" y="15801"/>
                </a:cubicBezTo>
                <a:cubicBezTo>
                  <a:pt x="1077" y="15684"/>
                  <a:pt x="1057" y="15648"/>
                  <a:pt x="967" y="15602"/>
                </a:cubicBezTo>
                <a:cubicBezTo>
                  <a:pt x="959" y="15594"/>
                  <a:pt x="951" y="15585"/>
                  <a:pt x="943" y="15577"/>
                </a:cubicBezTo>
              </a:path>
              <a:path w="4020" h="2085">
                <a:moveTo>
                  <a:pt x="1836" y="15577"/>
                </a:moveTo>
                <a:cubicBezTo>
                  <a:pt x="1856" y="15634"/>
                  <a:pt x="1861" y="15703"/>
                  <a:pt x="1885" y="15751"/>
                </a:cubicBezTo>
                <a:cubicBezTo>
                  <a:pt x="1925" y="15831"/>
                  <a:pt x="1923" y="15798"/>
                  <a:pt x="1885" y="15726"/>
                </a:cubicBezTo>
                <a:cubicBezTo>
                  <a:pt x="1853" y="15667"/>
                  <a:pt x="1820" y="15609"/>
                  <a:pt x="1786" y="15553"/>
                </a:cubicBezTo>
                <a:cubicBezTo>
                  <a:pt x="1763" y="15514"/>
                  <a:pt x="1712" y="15418"/>
                  <a:pt x="1662" y="15404"/>
                </a:cubicBezTo>
                <a:cubicBezTo>
                  <a:pt x="1583" y="15382"/>
                  <a:pt x="1528" y="15462"/>
                  <a:pt x="1513" y="15528"/>
                </a:cubicBezTo>
                <a:cubicBezTo>
                  <a:pt x="1486" y="15647"/>
                  <a:pt x="1527" y="15763"/>
                  <a:pt x="1538" y="15875"/>
                </a:cubicBezTo>
                <a:cubicBezTo>
                  <a:pt x="1549" y="15986"/>
                  <a:pt x="1573" y="16088"/>
                  <a:pt x="1588" y="16197"/>
                </a:cubicBezTo>
                <a:cubicBezTo>
                  <a:pt x="1597" y="16264"/>
                  <a:pt x="1612" y="16327"/>
                  <a:pt x="1612" y="16396"/>
                </a:cubicBezTo>
              </a:path>
              <a:path w="4020" h="2085">
                <a:moveTo>
                  <a:pt x="1463" y="16123"/>
                </a:moveTo>
                <a:cubicBezTo>
                  <a:pt x="1560" y="16187"/>
                  <a:pt x="1644" y="16173"/>
                  <a:pt x="1761" y="16173"/>
                </a:cubicBezTo>
              </a:path>
              <a:path w="4020" h="2085">
                <a:moveTo>
                  <a:pt x="2183" y="15701"/>
                </a:moveTo>
                <a:cubicBezTo>
                  <a:pt x="2107" y="15755"/>
                  <a:pt x="2091" y="15808"/>
                  <a:pt x="2059" y="15900"/>
                </a:cubicBezTo>
                <a:cubicBezTo>
                  <a:pt x="2032" y="15978"/>
                  <a:pt x="2018" y="16089"/>
                  <a:pt x="2034" y="16173"/>
                </a:cubicBezTo>
                <a:cubicBezTo>
                  <a:pt x="2048" y="16245"/>
                  <a:pt x="2089" y="16315"/>
                  <a:pt x="2133" y="16371"/>
                </a:cubicBezTo>
              </a:path>
              <a:path w="4020" h="2085">
                <a:moveTo>
                  <a:pt x="2282" y="15925"/>
                </a:moveTo>
                <a:cubicBezTo>
                  <a:pt x="2327" y="15996"/>
                  <a:pt x="2380" y="16115"/>
                  <a:pt x="2431" y="16173"/>
                </a:cubicBezTo>
                <a:cubicBezTo>
                  <a:pt x="2462" y="16208"/>
                  <a:pt x="2548" y="16281"/>
                  <a:pt x="2580" y="16297"/>
                </a:cubicBezTo>
              </a:path>
              <a:path w="4020" h="2085">
                <a:moveTo>
                  <a:pt x="2530" y="15900"/>
                </a:moveTo>
                <a:cubicBezTo>
                  <a:pt x="2464" y="15984"/>
                  <a:pt x="2403" y="16070"/>
                  <a:pt x="2332" y="16148"/>
                </a:cubicBezTo>
                <a:cubicBezTo>
                  <a:pt x="2288" y="16196"/>
                  <a:pt x="2271" y="16259"/>
                  <a:pt x="2257" y="16321"/>
                </a:cubicBezTo>
                <a:cubicBezTo>
                  <a:pt x="2257" y="16329"/>
                  <a:pt x="2257" y="16338"/>
                  <a:pt x="2257" y="16346"/>
                </a:cubicBezTo>
              </a:path>
              <a:path w="4020" h="2085">
                <a:moveTo>
                  <a:pt x="2480" y="15503"/>
                </a:moveTo>
                <a:cubicBezTo>
                  <a:pt x="2574" y="15615"/>
                  <a:pt x="2636" y="15736"/>
                  <a:pt x="2679" y="15875"/>
                </a:cubicBezTo>
                <a:cubicBezTo>
                  <a:pt x="2713" y="15985"/>
                  <a:pt x="2746" y="16106"/>
                  <a:pt x="2729" y="16222"/>
                </a:cubicBezTo>
                <a:cubicBezTo>
                  <a:pt x="2715" y="16317"/>
                  <a:pt x="2693" y="16399"/>
                  <a:pt x="2629" y="16470"/>
                </a:cubicBezTo>
                <a:cubicBezTo>
                  <a:pt x="2589" y="16514"/>
                  <a:pt x="2600" y="16518"/>
                  <a:pt x="2555" y="16495"/>
                </a:cubicBezTo>
              </a:path>
              <a:path w="4020" h="2085">
                <a:moveTo>
                  <a:pt x="3026" y="15974"/>
                </a:moveTo>
                <a:cubicBezTo>
                  <a:pt x="3115" y="15950"/>
                  <a:pt x="3181" y="15949"/>
                  <a:pt x="3274" y="15949"/>
                </a:cubicBezTo>
              </a:path>
              <a:path w="4020" h="2085">
                <a:moveTo>
                  <a:pt x="3026" y="16197"/>
                </a:moveTo>
                <a:cubicBezTo>
                  <a:pt x="3153" y="16252"/>
                  <a:pt x="3157" y="16257"/>
                  <a:pt x="3274" y="16197"/>
                </a:cubicBezTo>
              </a:path>
              <a:path w="4020" h="2085">
                <a:moveTo>
                  <a:pt x="3671" y="15528"/>
                </a:moveTo>
                <a:cubicBezTo>
                  <a:pt x="3769" y="15555"/>
                  <a:pt x="3732" y="15583"/>
                  <a:pt x="3746" y="15677"/>
                </a:cubicBezTo>
                <a:cubicBezTo>
                  <a:pt x="3764" y="15797"/>
                  <a:pt x="3770" y="15903"/>
                  <a:pt x="3770" y="16024"/>
                </a:cubicBezTo>
                <a:cubicBezTo>
                  <a:pt x="3770" y="16073"/>
                  <a:pt x="3770" y="16090"/>
                  <a:pt x="3770" y="16123"/>
                </a:cubicBezTo>
              </a:path>
              <a:path w="4020" h="2085">
                <a:moveTo>
                  <a:pt x="3994" y="16173"/>
                </a:moveTo>
                <a:cubicBezTo>
                  <a:pt x="3923" y="16198"/>
                  <a:pt x="3842" y="16256"/>
                  <a:pt x="3770" y="16272"/>
                </a:cubicBezTo>
                <a:cubicBezTo>
                  <a:pt x="3701" y="16287"/>
                  <a:pt x="3639" y="16298"/>
                  <a:pt x="3572" y="16321"/>
                </a:cubicBezTo>
                <a:cubicBezTo>
                  <a:pt x="3509" y="16343"/>
                  <a:pt x="3473" y="16356"/>
                  <a:pt x="3423" y="16396"/>
                </a:cubicBezTo>
              </a:path>
              <a:path w="4020" h="2085">
                <a:moveTo>
                  <a:pt x="3671" y="16594"/>
                </a:moveTo>
                <a:cubicBezTo>
                  <a:pt x="3737" y="16717"/>
                  <a:pt x="3801" y="16844"/>
                  <a:pt x="3870" y="16966"/>
                </a:cubicBezTo>
                <a:cubicBezTo>
                  <a:pt x="3904" y="17025"/>
                  <a:pt x="3933" y="17086"/>
                  <a:pt x="3969" y="17140"/>
                </a:cubicBezTo>
              </a:path>
              <a:path w="4020" h="2085">
                <a:moveTo>
                  <a:pt x="4093" y="16570"/>
                </a:moveTo>
                <a:cubicBezTo>
                  <a:pt x="4003" y="16620"/>
                  <a:pt x="4000" y="16665"/>
                  <a:pt x="3944" y="16743"/>
                </a:cubicBezTo>
                <a:cubicBezTo>
                  <a:pt x="3882" y="16829"/>
                  <a:pt x="3822" y="16901"/>
                  <a:pt x="3770" y="16991"/>
                </a:cubicBezTo>
                <a:cubicBezTo>
                  <a:pt x="3724" y="17072"/>
                  <a:pt x="3673" y="17162"/>
                  <a:pt x="3621" y="17239"/>
                </a:cubicBezTo>
                <a:cubicBezTo>
                  <a:pt x="3613" y="17247"/>
                  <a:pt x="3605" y="17256"/>
                  <a:pt x="3597" y="172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0"/>
          <p:cNvSpPr/>
          <p:nvPr/>
        </p:nvSpPr>
        <p:spPr>
          <a:xfrm>
            <a:off x="1677960" y="5653080"/>
            <a:ext cx="608040" cy="517680"/>
          </a:xfrm>
          <a:custGeom>
            <a:avLst/>
            <a:gdLst/>
            <a:ahLst/>
            <a:rect l="l" t="t" r="r" b="b"/>
            <a:pathLst>
              <a:path w="1688" h="1440">
                <a:moveTo>
                  <a:pt x="5035" y="16197"/>
                </a:moveTo>
                <a:cubicBezTo>
                  <a:pt x="5074" y="16147"/>
                  <a:pt x="5055" y="16142"/>
                  <a:pt x="5011" y="16098"/>
                </a:cubicBezTo>
                <a:cubicBezTo>
                  <a:pt x="4977" y="16064"/>
                  <a:pt x="4910" y="16052"/>
                  <a:pt x="4862" y="16049"/>
                </a:cubicBezTo>
                <a:cubicBezTo>
                  <a:pt x="4790" y="16045"/>
                  <a:pt x="4760" y="16076"/>
                  <a:pt x="4713" y="16123"/>
                </a:cubicBezTo>
                <a:cubicBezTo>
                  <a:pt x="4665" y="16171"/>
                  <a:pt x="4639" y="16222"/>
                  <a:pt x="4663" y="16297"/>
                </a:cubicBezTo>
                <a:cubicBezTo>
                  <a:pt x="4688" y="16375"/>
                  <a:pt x="4745" y="16387"/>
                  <a:pt x="4812" y="16346"/>
                </a:cubicBezTo>
                <a:cubicBezTo>
                  <a:pt x="4867" y="16312"/>
                  <a:pt x="4915" y="16243"/>
                  <a:pt x="4961" y="16197"/>
                </a:cubicBezTo>
                <a:cubicBezTo>
                  <a:pt x="4949" y="16292"/>
                  <a:pt x="4950" y="16324"/>
                  <a:pt x="4961" y="16421"/>
                </a:cubicBezTo>
                <a:cubicBezTo>
                  <a:pt x="4973" y="16527"/>
                  <a:pt x="4974" y="16638"/>
                  <a:pt x="4986" y="16743"/>
                </a:cubicBezTo>
                <a:cubicBezTo>
                  <a:pt x="4997" y="16842"/>
                  <a:pt x="4976" y="16926"/>
                  <a:pt x="4961" y="17016"/>
                </a:cubicBezTo>
                <a:cubicBezTo>
                  <a:pt x="4951" y="17074"/>
                  <a:pt x="4966" y="17091"/>
                  <a:pt x="4936" y="17140"/>
                </a:cubicBezTo>
                <a:cubicBezTo>
                  <a:pt x="4872" y="17108"/>
                  <a:pt x="4803" y="17079"/>
                  <a:pt x="4762" y="17016"/>
                </a:cubicBezTo>
                <a:cubicBezTo>
                  <a:pt x="4724" y="16957"/>
                  <a:pt x="4692" y="16913"/>
                  <a:pt x="4688" y="16842"/>
                </a:cubicBezTo>
                <a:cubicBezTo>
                  <a:pt x="4688" y="16826"/>
                  <a:pt x="4688" y="16809"/>
                  <a:pt x="4688" y="16793"/>
                </a:cubicBezTo>
              </a:path>
              <a:path w="1688" h="1440">
                <a:moveTo>
                  <a:pt x="5135" y="15701"/>
                </a:moveTo>
                <a:cubicBezTo>
                  <a:pt x="5135" y="15791"/>
                  <a:pt x="5114" y="15862"/>
                  <a:pt x="5110" y="15949"/>
                </a:cubicBezTo>
                <a:cubicBezTo>
                  <a:pt x="5104" y="16071"/>
                  <a:pt x="5123" y="16178"/>
                  <a:pt x="5135" y="16297"/>
                </a:cubicBezTo>
                <a:cubicBezTo>
                  <a:pt x="5145" y="16398"/>
                  <a:pt x="5152" y="16406"/>
                  <a:pt x="5209" y="16495"/>
                </a:cubicBezTo>
              </a:path>
              <a:path w="1688" h="1440">
                <a:moveTo>
                  <a:pt x="5259" y="16123"/>
                </a:moveTo>
                <a:cubicBezTo>
                  <a:pt x="5321" y="16229"/>
                  <a:pt x="5389" y="16331"/>
                  <a:pt x="5432" y="16446"/>
                </a:cubicBezTo>
                <a:cubicBezTo>
                  <a:pt x="5455" y="16513"/>
                  <a:pt x="5460" y="16531"/>
                  <a:pt x="5482" y="16570"/>
                </a:cubicBezTo>
              </a:path>
              <a:path w="1688" h="1440">
                <a:moveTo>
                  <a:pt x="5507" y="16148"/>
                </a:moveTo>
                <a:cubicBezTo>
                  <a:pt x="5404" y="16185"/>
                  <a:pt x="5367" y="16205"/>
                  <a:pt x="5308" y="16297"/>
                </a:cubicBezTo>
                <a:cubicBezTo>
                  <a:pt x="5266" y="16361"/>
                  <a:pt x="5224" y="16421"/>
                  <a:pt x="5209" y="16495"/>
                </a:cubicBezTo>
              </a:path>
              <a:path w="1688" h="1440">
                <a:moveTo>
                  <a:pt x="5631" y="15701"/>
                </a:moveTo>
                <a:cubicBezTo>
                  <a:pt x="5674" y="15867"/>
                  <a:pt x="5701" y="16024"/>
                  <a:pt x="5705" y="16197"/>
                </a:cubicBezTo>
                <a:cubicBezTo>
                  <a:pt x="5708" y="16317"/>
                  <a:pt x="5695" y="16464"/>
                  <a:pt x="5631" y="16570"/>
                </a:cubicBezTo>
                <a:cubicBezTo>
                  <a:pt x="5603" y="16617"/>
                  <a:pt x="5536" y="16656"/>
                  <a:pt x="5482" y="16644"/>
                </a:cubicBezTo>
                <a:cubicBezTo>
                  <a:pt x="5465" y="16636"/>
                  <a:pt x="5449" y="16627"/>
                  <a:pt x="5432" y="16619"/>
                </a:cubicBezTo>
              </a:path>
              <a:path w="1688" h="1440">
                <a:moveTo>
                  <a:pt x="5928" y="16222"/>
                </a:moveTo>
                <a:cubicBezTo>
                  <a:pt x="6007" y="16232"/>
                  <a:pt x="6068" y="16247"/>
                  <a:pt x="6152" y="16247"/>
                </a:cubicBezTo>
                <a:cubicBezTo>
                  <a:pt x="6201" y="16247"/>
                  <a:pt x="6218" y="16247"/>
                  <a:pt x="6251" y="16247"/>
                </a:cubicBezTo>
              </a:path>
              <a:path w="1688" h="1440">
                <a:moveTo>
                  <a:pt x="6003" y="16446"/>
                </a:moveTo>
                <a:cubicBezTo>
                  <a:pt x="6047" y="16498"/>
                  <a:pt x="6100" y="16507"/>
                  <a:pt x="6176" y="16520"/>
                </a:cubicBezTo>
                <a:cubicBezTo>
                  <a:pt x="6237" y="16530"/>
                  <a:pt x="6293" y="16568"/>
                  <a:pt x="6350" y="16545"/>
                </a:cubicBezTo>
                <a:cubicBezTo>
                  <a:pt x="6350" y="16537"/>
                  <a:pt x="6350" y="16528"/>
                  <a:pt x="6350" y="165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1"/>
          <p:cNvSpPr/>
          <p:nvPr/>
        </p:nvSpPr>
        <p:spPr>
          <a:xfrm>
            <a:off x="2562120" y="5653080"/>
            <a:ext cx="295560" cy="615960"/>
          </a:xfrm>
          <a:custGeom>
            <a:avLst/>
            <a:gdLst/>
            <a:ahLst/>
            <a:rect l="l" t="t" r="r" b="b"/>
            <a:pathLst>
              <a:path w="820" h="1713">
                <a:moveTo>
                  <a:pt x="7317" y="15701"/>
                </a:moveTo>
                <a:cubicBezTo>
                  <a:pt x="7360" y="15744"/>
                  <a:pt x="7382" y="15789"/>
                  <a:pt x="7392" y="15850"/>
                </a:cubicBezTo>
                <a:cubicBezTo>
                  <a:pt x="7409" y="15952"/>
                  <a:pt x="7392" y="16069"/>
                  <a:pt x="7392" y="16173"/>
                </a:cubicBezTo>
              </a:path>
              <a:path w="820" h="1713">
                <a:moveTo>
                  <a:pt x="7119" y="16421"/>
                </a:moveTo>
                <a:cubicBezTo>
                  <a:pt x="7232" y="16421"/>
                  <a:pt x="7331" y="16401"/>
                  <a:pt x="7441" y="16396"/>
                </a:cubicBezTo>
                <a:cubicBezTo>
                  <a:pt x="7536" y="16392"/>
                  <a:pt x="7715" y="16431"/>
                  <a:pt x="7789" y="16371"/>
                </a:cubicBezTo>
                <a:cubicBezTo>
                  <a:pt x="7797" y="16363"/>
                  <a:pt x="7805" y="16354"/>
                  <a:pt x="7813" y="16346"/>
                </a:cubicBezTo>
              </a:path>
              <a:path w="820" h="1713">
                <a:moveTo>
                  <a:pt x="7218" y="16842"/>
                </a:moveTo>
                <a:cubicBezTo>
                  <a:pt x="7320" y="16952"/>
                  <a:pt x="7364" y="17042"/>
                  <a:pt x="7441" y="17165"/>
                </a:cubicBezTo>
                <a:cubicBezTo>
                  <a:pt x="7482" y="17230"/>
                  <a:pt x="7527" y="17342"/>
                  <a:pt x="7590" y="17388"/>
                </a:cubicBezTo>
                <a:cubicBezTo>
                  <a:pt x="7607" y="17396"/>
                  <a:pt x="7623" y="17405"/>
                  <a:pt x="7640" y="17413"/>
                </a:cubicBezTo>
              </a:path>
              <a:path w="820" h="1713">
                <a:moveTo>
                  <a:pt x="7541" y="16818"/>
                </a:moveTo>
                <a:cubicBezTo>
                  <a:pt x="7486" y="16856"/>
                  <a:pt x="7425" y="16928"/>
                  <a:pt x="7392" y="16991"/>
                </a:cubicBezTo>
                <a:cubicBezTo>
                  <a:pt x="7348" y="17075"/>
                  <a:pt x="7310" y="17151"/>
                  <a:pt x="7268" y="17239"/>
                </a:cubicBezTo>
                <a:cubicBezTo>
                  <a:pt x="7245" y="17287"/>
                  <a:pt x="7205" y="17316"/>
                  <a:pt x="7193" y="17363"/>
                </a:cubicBezTo>
              </a:path>
              <a:path w="820" h="1713">
                <a:moveTo>
                  <a:pt x="7590" y="16545"/>
                </a:moveTo>
                <a:cubicBezTo>
                  <a:pt x="7684" y="16545"/>
                  <a:pt x="7705" y="16524"/>
                  <a:pt x="7739" y="16570"/>
                </a:cubicBezTo>
                <a:cubicBezTo>
                  <a:pt x="7698" y="16609"/>
                  <a:pt x="7677" y="16653"/>
                  <a:pt x="7640" y="16694"/>
                </a:cubicBezTo>
                <a:cubicBezTo>
                  <a:pt x="7582" y="16757"/>
                  <a:pt x="7628" y="16786"/>
                  <a:pt x="7689" y="16818"/>
                </a:cubicBezTo>
                <a:cubicBezTo>
                  <a:pt x="7774" y="16863"/>
                  <a:pt x="7844" y="16867"/>
                  <a:pt x="7938" y="168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40:37Z</dcterms:created>
  <dc:creator>jnewman</dc:creator>
  <dc:description/>
  <dc:language>en-US</dc:language>
  <cp:lastModifiedBy>abeason</cp:lastModifiedBy>
  <dcterms:modified xsi:type="dcterms:W3CDTF">2010-04-16T13:04:39Z</dcterms:modified>
  <cp:revision>8</cp:revision>
  <dc:subject/>
  <dc:title>Lesson 1.4 part one</dc:title>
</cp:coreProperties>
</file>